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3.wmf" ContentType="image/x-wmf"/>
  <Override PartName="/ppt/media/image51.png" ContentType="image/png"/>
  <Override PartName="/ppt/media/image52.wmf" ContentType="image/x-wmf"/>
  <Override PartName="/ppt/media/image49.png" ContentType="image/png"/>
  <Override PartName="/ppt/media/image7.wmf" ContentType="image/x-wmf"/>
  <Override PartName="/ppt/media/image32.png" ContentType="image/png"/>
  <Override PartName="/ppt/media/image29.png" ContentType="image/png"/>
  <Override PartName="/ppt/media/image57.wmf" ContentType="image/x-wmf"/>
  <Override PartName="/ppt/media/image34.png" ContentType="image/png"/>
  <Override PartName="/ppt/media/image37.wmf" ContentType="image/x-wmf"/>
  <Override PartName="/ppt/media/image12.jpeg" ContentType="image/jpeg"/>
  <Override PartName="/ppt/media/image4.png" ContentType="image/png"/>
  <Override PartName="/ppt/media/image16.png" ContentType="image/png"/>
  <Override PartName="/ppt/media/image56.wmf" ContentType="image/x-wmf"/>
  <Override PartName="/ppt/media/image13.jpeg" ContentType="image/jpeg"/>
  <Override PartName="/ppt/media/image47.wmf" ContentType="image/x-wmf"/>
  <Override PartName="/ppt/media/image10.wmf" ContentType="image/x-wmf"/>
  <Override PartName="/ppt/media/image27.png" ContentType="image/png"/>
  <Override PartName="/ppt/media/image17.png" ContentType="image/png"/>
  <Override PartName="/ppt/media/image5.png" ContentType="image/png"/>
  <Override PartName="/ppt/media/image28.png" ContentType="image/png"/>
  <Override PartName="/ppt/media/image1.wmf" ContentType="image/x-wmf"/>
  <Override PartName="/ppt/media/image62.png" ContentType="image/png"/>
  <Override PartName="/ppt/media/image23.wmf" ContentType="image/x-wmf"/>
  <Override PartName="/ppt/media/image25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image24.wmf" ContentType="image/x-wmf"/>
  <Override PartName="/ppt/media/image20.wmf" ContentType="image/x-wmf"/>
  <Override PartName="/ppt/media/image63.png" ContentType="image/png"/>
  <Override PartName="/ppt/media/image59.wmf" ContentType="image/x-wmf"/>
  <Override PartName="/ppt/media/image22.wmf" ContentType="image/x-wmf"/>
  <Override PartName="/ppt/media/image61.jpeg" ContentType="image/jpeg"/>
  <Override PartName="/ppt/media/image8.wmf" ContentType="image/x-wmf"/>
  <Override PartName="/ppt/media/image38.wmf" ContentType="image/x-wmf"/>
  <Override PartName="/ppt/media/image55.wmf" ContentType="image/x-wmf"/>
  <Override PartName="/ppt/media/image2.png" ContentType="image/png"/>
  <Override PartName="/ppt/media/image14.png" ContentType="image/png"/>
  <Override PartName="/ppt/media/image54.wmf" ContentType="image/x-wmf"/>
  <Override PartName="/ppt/media/image9.wmf" ContentType="image/x-wmf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1.wmf" ContentType="image/x-wmf"/>
  <Override PartName="/ppt/media/image50.png" ContentType="image/png"/>
  <Override PartName="/ppt/media/image30.png" ContentType="image/png"/>
  <Override PartName="/ppt/media/image31.png" ContentType="image/png"/>
  <Override PartName="/ppt/media/image35.wmf" ContentType="image/x-wmf"/>
  <Override PartName="/ppt/media/image36.wmf" ContentType="image/x-wmf"/>
  <Override PartName="/ppt/media/image39.png" ContentType="image/png"/>
  <Override PartName="/ppt/media/image42.wmf" ContentType="image/x-wmf"/>
  <Override PartName="/ppt/media/image18.png" ContentType="image/png"/>
  <Override PartName="/ppt/media/image6.png" ContentType="image/png"/>
  <Override PartName="/ppt/media/image40.wmf" ContentType="image/x-wmf"/>
  <Override PartName="/ppt/media/image19.png" ContentType="image/png"/>
  <Override PartName="/ppt/media/image4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907588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824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707760" y="742680"/>
            <a:ext cx="53658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3360" y="94107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7083-ECE7-4F45-A667-0A1A87F2C6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70812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70812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70812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70812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70812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70812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70812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70812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70812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67C-EA06-43D6-96ED-FFD6B20A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A07F-DE11-4087-9494-84C13221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4A5-13DC-43E6-88A6-6F3C12ED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CD11-3A21-4F21-9CF1-6811FE5B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C3D5-4BAC-41EF-8478-AE1FEDE1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066-68EC-4291-888B-3E0CB9A9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4601-20F8-41BE-B5C6-3B32EC51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DE66-091F-4EA8-A2B7-03CCC640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609120"/>
            <a:ext cx="840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4D9-56EC-4F97-92AD-101A3635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5ED-5856-44F0-8F66-881687C6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985-9541-4F78-9560-C2873A1E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A602-657B-4FE3-9670-BA143383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PFLDNet Argonne Feb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R. Hughes-Jones  Manche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5D9F-44EF-43D6-93BA-CFE47F818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061560" y="157320"/>
            <a:ext cx="674640" cy="75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00080" y="193680"/>
            <a:ext cx="110484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88880"/>
            <a:ext cx="855000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DP Performance and PCI-X Activity of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Intel 10 Gigabit Etherne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dapter on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P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x26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al Itanium 2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SuperMicro P4DP8-2G Dual Xenon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ll Poweredge 2650 Dual Xen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46320" y="3367080"/>
            <a:ext cx="762768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宋体"/>
              </a:rPr>
              <a:t>Richard Hughes-Jones</a:t>
            </a:r>
            <a:br>
              <a:rPr sz="2000"/>
            </a:b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ff"/>
                </a:solidFill>
                <a:latin typeface="Arial"/>
                <a:ea typeface="宋体"/>
              </a:rPr>
              <a:t>Many people helped including: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verre Jarp and Glen Hisdal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RN Open Lab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Sylvain Ravot, Olivier Martin and Elise Guyot  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  <a:ea typeface="宋体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taTAG project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ff"/>
                </a:solidFill>
                <a:latin typeface="Arial"/>
                <a:ea typeface="宋体"/>
              </a:rPr>
              <a:t>Les Cottrell, Connie Logg and Gary Buhrmaster SLAC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br>
              <a:rPr sz="2000"/>
            </a:br>
            <a:r>
              <a:rPr b="1" lang="en-GB" sz="1800" spc="-1" strike="noStrike">
                <a:solidFill>
                  <a:srgbClr val="0000ff"/>
                </a:solidFill>
                <a:latin typeface="Arial"/>
                <a:ea typeface="宋体"/>
              </a:rPr>
              <a:t>Stephen Dallison MB-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7120" y="4867200"/>
            <a:ext cx="1162080" cy="540000"/>
          </a:xfrm>
          <a:prstGeom prst="rect">
            <a:avLst/>
          </a:prstGeom>
          <a:ln w="0">
            <a:noFill/>
          </a:ln>
        </p:spPr>
      </p:pic>
      <p:pic>
        <p:nvPicPr>
          <p:cNvPr id="53" name="pinger" descr=""/>
          <p:cNvPicPr/>
          <p:nvPr/>
        </p:nvPicPr>
        <p:blipFill>
          <a:blip r:embed="rId2"/>
          <a:stretch/>
        </p:blipFill>
        <p:spPr>
          <a:xfrm>
            <a:off x="8381880" y="5300640"/>
            <a:ext cx="809640" cy="538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12087" t="24023" r="2878" b="21034"/>
          <a:stretch/>
        </p:blipFill>
        <p:spPr>
          <a:xfrm>
            <a:off x="311040" y="5740560"/>
            <a:ext cx="1397160" cy="539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8163000" y="4067280"/>
            <a:ext cx="1147680" cy="5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DD8-2665-451C-8FF8-86BDF7C2B2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489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10 GigE on Itanium IA64: UDP Latency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7200" y="954000"/>
            <a:ext cx="42768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therboard: HP rx2600 IA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ipset: HPz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U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al Itanium 2 1GHz wi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12k L2 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 bus dual 622 MHz  4.3 GByte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I-X 133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P Linux Kernel 2.5.72 S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 PRO/10GbE LR Server Adap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 driver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xIntDelay=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sumRX=1 XsumTX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xDescriptors=2048 TxDescriptors=20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TU 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tency 1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amp; very well beh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tency Slope 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0.0033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µ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/by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2B Expect:    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0.00268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µ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/by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C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0.00188 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Gig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0.0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C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0.001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308480" y="3735360"/>
            <a:ext cx="5381640" cy="2440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311720" y="1166760"/>
            <a:ext cx="538164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1AA-7D32-4A6B-9E25-0801778AEA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95080" y="228600"/>
            <a:ext cx="7489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10 GigE on Itanium IA64: Latency Histograms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9680" y="1039680"/>
            <a:ext cx="786132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peak structure with the peaks separated by 3-4 µ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aks are ~1-2 µs w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to that observed with 1 Gbit Ethernet NICs on IA32 architectu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700520" y="4400640"/>
            <a:ext cx="4243320" cy="16858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99880" y="2379600"/>
            <a:ext cx="421812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694400" y="2370240"/>
            <a:ext cx="4224240" cy="1666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293760" y="4395960"/>
            <a:ext cx="4235400" cy="167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C07E-1AD6-4AD2-BD16-D06E507926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95080" y="228600"/>
            <a:ext cx="7489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10 GigE on Itanium IA64: UDP Throughput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7680" y="1031760"/>
            <a:ext cx="35431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HP Linux Kernel 2.5.72 SMP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TU 1611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x throughput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5.749 G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 on every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packet loss in 10M 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ending host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 CPU is id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14000-16080 byte packets, one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PU is 40% in kernel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the packet size decreases load rises to ~90% for packets of 4000 bytes or l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Receiving hos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both CPUs bus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16114 bytes 40% kernel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packets 80 % kernel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TCP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gensink data rate was 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745 MBytes/s = 5.96 G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633840" y="4770360"/>
            <a:ext cx="5775120" cy="17748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633840" y="3112920"/>
            <a:ext cx="5775120" cy="1775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627360" y="885960"/>
            <a:ext cx="5761080" cy="234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C01-7673-41BE-891B-F3C8D88621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8120" y="228600"/>
            <a:ext cx="76471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10 GigE on Itanium IA64: UDP Throughput </a:t>
            </a:r>
            <a:r>
              <a:rPr b="0" lang="en-GB" sz="2400" spc="-1" strike="noStrike">
                <a:solidFill>
                  <a:srgbClr val="cc0066"/>
                </a:solidFill>
                <a:latin typeface="Arial"/>
              </a:rPr>
              <a:t>[04]</a:t>
            </a: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7680" y="1060560"/>
            <a:ext cx="354312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HP Linux Kernel 2.6.1 #17 SMP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TU 1611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x throughput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5.81 G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 on every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me packet loss pkts &lt; 4000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ending host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 CPU is idle – but swap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14000-16080 byte packets, one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PU is 20-30% in kernel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the packet size decreases load rises to ~90% for packets of 4000 bytes or l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Receiving hos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CPU is idle – but swap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16114 bytes 40% kernel mod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packets 70 % kernel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716280" y="878040"/>
            <a:ext cx="5624640" cy="2187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720960" y="2952720"/>
            <a:ext cx="5631120" cy="18669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720960" y="4648320"/>
            <a:ext cx="5631120" cy="187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006-6C74-46E1-8343-E7C24D6ACA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00160" y="939600"/>
            <a:ext cx="79070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16080 byte packets every 200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µs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ntel PRO/10GbE LR Server Adapter MTU 161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setpci -s 02:1.0 e6.b=2e     (22 26 2a )       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mmrbc 4096 bytes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   (512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24  2048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2240" y="4861080"/>
            <a:ext cx="508320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I-X Signal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nsmit - memory to N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rupt and processing: 48.4 µs after start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ransfer takes ~2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µ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ata transfer rate over PCI-X: 5.86 Gbit/s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128520"/>
            <a:ext cx="7632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10 GigE on Itanium IA64: PCI-X bus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77720" y="1474920"/>
            <a:ext cx="4372200" cy="26715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243080" y="3603600"/>
            <a:ext cx="16668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7640" y="415440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R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095480" y="3670200"/>
            <a:ext cx="155520" cy="571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73240" y="2139840"/>
            <a:ext cx="142920" cy="15433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2240" y="4427640"/>
            <a:ext cx="20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fer of 1611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965240" y="3605040"/>
            <a:ext cx="192240" cy="90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97080" y="4435560"/>
            <a:ext cx="24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I-X bursts 256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300040" y="3398760"/>
            <a:ext cx="290520" cy="11048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917960" y="1469880"/>
            <a:ext cx="4988160" cy="4786560"/>
            <a:chOff x="4917960" y="1469880"/>
            <a:chExt cx="4988160" cy="4786560"/>
          </a:xfrm>
        </p:grpSpPr>
        <p:sp>
          <p:nvSpPr>
            <p:cNvPr id="228" name=""/>
            <p:cNvSpPr/>
            <p:nvPr/>
          </p:nvSpPr>
          <p:spPr>
            <a:xfrm>
              <a:off x="4917960" y="4881600"/>
              <a:ext cx="4988160" cy="13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7200" indent="-457200">
                <a:lnSpc>
                  <a:spcPct val="80000"/>
                </a:lnSpc>
                <a:spcBef>
                  <a:spcPts val="400"/>
                </a:spcBef>
                <a:buClr>
                  <a:srgbClr val="ff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de up of 4 PCI-X sequences of ~4.55 µs then a gap of 700 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400"/>
                </a:spcBef>
                <a:buClr>
                  <a:srgbClr val="ff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quence contains 16 PCI bursts 256 by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400"/>
                </a:spcBef>
                <a:buClr>
                  <a:srgbClr val="ff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equence length 4096 bytes ( mmrb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400"/>
                </a:spcBef>
                <a:buClr>
                  <a:srgbClr val="ff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400"/>
                </a:spcBef>
                <a:buClr>
                  <a:srgbClr val="ff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2"/>
            <a:srcRect l="0" t="20276" r="0" b="0"/>
            <a:stretch/>
          </p:blipFill>
          <p:spPr>
            <a:xfrm>
              <a:off x="5067360" y="1469880"/>
              <a:ext cx="46990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5575320" y="1913040"/>
              <a:ext cx="828720" cy="171432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38200" y="408456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SR A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20160" y="441468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CI-X Sequence 4096 by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41800" y="4394160"/>
              <a:ext cx="24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CI-X bursts 256 by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945120" y="3129120"/>
              <a:ext cx="361800" cy="1347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839920" y="3629160"/>
              <a:ext cx="127080" cy="5284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31120" y="3591000"/>
              <a:ext cx="1823760" cy="144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253280" y="3592440"/>
              <a:ext cx="192240" cy="90828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482320" y="412920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p 700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8497440" y="3451320"/>
              <a:ext cx="34920" cy="8366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970360" y="4151160"/>
            <a:ext cx="197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I-X Sequ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567160" y="3084480"/>
            <a:ext cx="341280" cy="648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38520" y="3103560"/>
            <a:ext cx="288720" cy="11667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335B-C5B0-4F08-80A7-1422A5157B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00160" y="939600"/>
            <a:ext cx="79070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16080 byte packets every 200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µs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ntel PRO/10GbE LR Server Adapter MTU 161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setpci -s 02:1.0 e6.b=2e     (22 26 2a )       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mmrbc 4096 bytes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   (512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24  2048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2240" y="4861080"/>
            <a:ext cx="508320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I-X Signal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nsmit - memory to N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rupt and processing: 48.4 µs after start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ransfer takes ~2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µ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ata transfer rate over PCI-X: 5.86 G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89520" y="4881600"/>
            <a:ext cx="50166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I-X Signal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eceive – NIC to memo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3120" indent="-3931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rupt every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3120" indent="-39312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ransfer takes ~18.4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µ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3120" indent="-39312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ata transfer rate over PCI-X : 7.014 G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3120" indent="-39312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: receive is faster cf the 1 GE 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3120" indent="-3931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128520"/>
            <a:ext cx="7632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10 GigE on Itanium IA64: PCI-X bus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02240" y="1474920"/>
            <a:ext cx="4747680" cy="3267720"/>
            <a:chOff x="102240" y="1474920"/>
            <a:chExt cx="4747680" cy="326772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477720" y="1474920"/>
              <a:ext cx="4372200" cy="26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1243080" y="3603600"/>
              <a:ext cx="1666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7640" y="415440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SR A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095480" y="3670200"/>
              <a:ext cx="155520" cy="5716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73240" y="2139840"/>
              <a:ext cx="142920" cy="154332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2240" y="4427640"/>
              <a:ext cx="206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fer of 16114 by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1965240" y="3605040"/>
              <a:ext cx="192240" cy="908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197080" y="4435560"/>
              <a:ext cx="236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CI-X bursts 256 by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2300040" y="3398760"/>
              <a:ext cx="290520" cy="1104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084640" y="1471680"/>
            <a:ext cx="4391280" cy="2670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582040" y="4165560"/>
            <a:ext cx="1084320" cy="260280"/>
          </a:xfrm>
          <a:solidFill>
            <a:srgbClr val="ffffff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31080" y="3603600"/>
            <a:ext cx="1406520" cy="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481600" y="3933720"/>
            <a:ext cx="1183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R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54840" y="3701880"/>
            <a:ext cx="676440" cy="3668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790040" y="2184480"/>
            <a:ext cx="142560" cy="154296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90240" y="4416480"/>
            <a:ext cx="20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fer of 1611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754680" y="3584520"/>
            <a:ext cx="185760" cy="898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42160" y="4440240"/>
            <a:ext cx="23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I-X bursts 512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959160" y="3138480"/>
            <a:ext cx="273240" cy="13622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55960" y="4151160"/>
            <a:ext cx="197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I-X Sequ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552760" y="3084480"/>
            <a:ext cx="341280" cy="648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24120" y="3103560"/>
            <a:ext cx="289080" cy="11667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B91-28E9-4F62-A8F0-B9F9E062B3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489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66"/>
                </a:solidFill>
                <a:latin typeface="Arial"/>
              </a:rPr>
              <a:t>10 GigE on Xeon IA32: UDP Latency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9680" y="1039680"/>
            <a:ext cx="394812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therboard: Supermicro P4DP8-G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ipset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l E7500 (Pluma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PU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al Xeon 2.2GHz with 512k L2 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 bus 400 MHz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I-X 133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Hat Kerne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4.21 SM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l(R) PRO/10GbE Network Driver v1.0.45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l PRO/10GbE LR Server Adap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C 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xIntDelay=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sumRX=1 XsumTX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xDescriptors=2048 TxDescriptors=20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U 1500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atency 14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&amp; reasonably beha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atency Slope 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0.0032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µ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/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2B Expect:    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0.00268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µ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/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267080" y="3562200"/>
            <a:ext cx="5381640" cy="2440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254480" y="1044720"/>
            <a:ext cx="5381640" cy="242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0A9-6A15-4C6B-BED1-3344E92F58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95080" y="228600"/>
            <a:ext cx="7489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66"/>
                </a:solidFill>
                <a:latin typeface="Arial"/>
              </a:rPr>
              <a:t>10 GigE on Xeon IA32: Latency Histograms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9680" y="1039680"/>
            <a:ext cx="786132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peak structure with the peaks separated by 3-4 µ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aks are ~1-2 µs w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liar to that observed with 1 Gbit Ethernet NICs on IA32 architectu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940280" y="2438280"/>
            <a:ext cx="4224240" cy="16671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71680" y="2446200"/>
            <a:ext cx="4217760" cy="16574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50800" y="4373640"/>
            <a:ext cx="4235400" cy="16761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968720" y="4338720"/>
            <a:ext cx="4243680" cy="168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96B8-F848-4656-83F5-26E72518CB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95080" y="228600"/>
            <a:ext cx="7489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66"/>
                </a:solidFill>
                <a:latin typeface="Arial"/>
              </a:rPr>
              <a:t>10 GigE on Xeon IA32: Throughput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3040" y="992160"/>
            <a:ext cx="35434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TU 1611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x throughput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2.75 Gbit/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mrbc 5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Max throughput 3.97 Gbit/s </a:t>
            </a:r>
            <a:br>
              <a:rPr sz="1400"/>
            </a:b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mmrbc 4096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 on every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packet loss in 10M 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ending host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closely spaced packets, the other CPU is ~60-70 % in kernel mo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Receiving hos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packets 80 % in kernel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9000 bytes ~50% in kernel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660840" y="828720"/>
            <a:ext cx="5722920" cy="21589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3660840" y="4541760"/>
            <a:ext cx="5722920" cy="1800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3660840" y="2860560"/>
            <a:ext cx="5722920" cy="18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7F4-D56E-4553-9A82-C67EDA2797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47680" y="1312920"/>
            <a:ext cx="4741920" cy="26748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81240" y="-360"/>
            <a:ext cx="76183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66"/>
                </a:solidFill>
                <a:latin typeface="Arial"/>
              </a:rPr>
              <a:t>10 GigE on Xeon IA32: PCI-X bus Activit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00160" y="982440"/>
            <a:ext cx="79502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16080 byte packets every 200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µ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tel PRO/10GbE LR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mrbc 512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2240" y="4861080"/>
            <a:ext cx="508320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I-X Signal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nsmit - memory to N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rupt and processing: 70 µs after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ransfer takes ~44.7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µ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ransfer rate over PCI-X: 2.88Gbit/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89520" y="4853160"/>
            <a:ext cx="4753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I-X Signal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eceive – NIC to memo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rupt every pack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ransfer takes ~18.29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µ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ransfer rate over PCI-X : 7.014Gbit/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as Itan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5078520" y="1262160"/>
            <a:ext cx="4390920" cy="29145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370400" y="4124160"/>
            <a:ext cx="1084320" cy="260640"/>
          </a:xfrm>
          <a:solidFill>
            <a:srgbClr val="ffffff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49200" y="3427560"/>
            <a:ext cx="1779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7640" y="401148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R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171080" y="3214800"/>
            <a:ext cx="71640" cy="828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71440" y="1971720"/>
            <a:ext cx="142920" cy="129996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2240" y="4356000"/>
            <a:ext cx="20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fer of 1611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842840" y="3429000"/>
            <a:ext cx="314280" cy="1000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54160" y="428004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I-X burst 256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171520" y="3029040"/>
            <a:ext cx="371160" cy="1299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529480" y="4568760"/>
            <a:ext cx="1084320" cy="260280"/>
          </a:xfrm>
          <a:solidFill>
            <a:srgbClr val="ffffff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08760" y="3757680"/>
            <a:ext cx="14079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873480" y="3773520"/>
            <a:ext cx="343080" cy="900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47480" y="4572000"/>
            <a:ext cx="20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fer of 1611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24640" y="429912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R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73840" y="3430440"/>
            <a:ext cx="600120" cy="9860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45520" y="1959120"/>
            <a:ext cx="585720" cy="15001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1BAF-FAB6-4327-BEEA-C99A06A15F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66"/>
                </a:solidFill>
                <a:latin typeface="Arial"/>
              </a:rPr>
              <a:t>10 GigE on Itanium IA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cc66"/>
                </a:solidFill>
                <a:latin typeface="Arial"/>
              </a:rPr>
              <a:t>10 GigE on Xeon IA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Arial"/>
              </a:rPr>
              <a:t>10 GigE on Dell Xeon IA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Tuning the PCI-X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SC2003 Phoe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C2F1-F68C-4FA6-A3BB-E0EA958120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95080" y="228600"/>
            <a:ext cx="7489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10 GigE on Dell Xeon: Throughput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3040" y="992160"/>
            <a:ext cx="35434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TU 1611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x throughput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5.4 G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 on every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me packet loss pkts &lt; 4000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ending host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closely spaced packets, one CPU is ~70% in kernel mo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U usage swap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Receiving hos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CPU is idle but CPU usage sw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closely spaced packet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~80 %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kernel mo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784680" y="838080"/>
            <a:ext cx="5646600" cy="21798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784680" y="2889360"/>
            <a:ext cx="5646600" cy="18208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784680" y="4546440"/>
            <a:ext cx="5646600" cy="182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166-2FF3-47AB-B34C-E55AE7D0DC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489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10 GigE on Dell Xeon : UDP Latency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9680" y="1039680"/>
            <a:ext cx="394812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therboard: Dell Poweredge 26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ipset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l E7500 (Pluma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PU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al Xeon 3.06 GHz with 512k L2 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 bus 533 MHz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I-X 133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Hat Kerne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4.20 altAI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l(R) PRO/10GbE Network Driver v1.0.45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l PRO/10GbE LR Server Adap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C 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xIntDelay=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sumRX=1 XsumTX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xDescriptors=2048 TxDescriptors=20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U 16114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atency 3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with some ste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atency Slope 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0.0017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µ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/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2B Expect:    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0.00268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µ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/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260960" y="992160"/>
            <a:ext cx="5379840" cy="2530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4255920" y="3549600"/>
            <a:ext cx="538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BF8D-59FB-48E9-AD83-E3660B37CB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42680" y="255600"/>
            <a:ext cx="842004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10 GigEthernet: Throughp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7760" y="958320"/>
            <a:ext cx="514512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500 byte MTU gives ~ 2 Gbit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sed 16144 byte MTU max user length 160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taTAG Supermicro PC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ual 2.2 GHz Xeon CPU FSB 400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PCI-X mmrbc 512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wire rate throughput of 2.9 Gbit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LAC Dell PCs giving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ual 3.0 GHz Xeon CPU FSB 533 MH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PCI-X mmrbc 4096 byt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wire rate of 5.4 Gbit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ERN OpenLab HP Itanium PC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ual 1.0 GHz 64 bit Itanium CPU FSB 400 MH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PCI-X mmrbc 4096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wire rate of 5.7 Gbit/s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499000" y="1162080"/>
            <a:ext cx="3638520" cy="16956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516640" y="4608360"/>
            <a:ext cx="3624120" cy="16909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5465880" y="2847960"/>
            <a:ext cx="3717720" cy="17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77F-48B4-4E45-96B7-AF18924729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065240" y="217440"/>
            <a:ext cx="74898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Arial"/>
              </a:rPr>
              <a:t>Tuning PCI-X: Variation of mmrbc IA3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145040" y="679320"/>
            <a:ext cx="5599080" cy="5681880"/>
            <a:chOff x="4145040" y="679320"/>
            <a:chExt cx="5599080" cy="568188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4145040" y="4921200"/>
              <a:ext cx="431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4145040" y="2127240"/>
              <a:ext cx="431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3"/>
            <a:stretch/>
          </p:blipFill>
          <p:spPr>
            <a:xfrm>
              <a:off x="4145040" y="3502080"/>
              <a:ext cx="431964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4"/>
            <a:stretch/>
          </p:blipFill>
          <p:spPr>
            <a:xfrm>
              <a:off x="4146840" y="679320"/>
              <a:ext cx="4319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8429760" y="2025720"/>
              <a:ext cx="12841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mr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1024 by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415360" y="3413160"/>
              <a:ext cx="13287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mr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2048 by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415360" y="5041800"/>
              <a:ext cx="13287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mr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096 by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64120" y="4533840"/>
              <a:ext cx="90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420400" y="755640"/>
              <a:ext cx="12157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mr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12 by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799240" y="4219560"/>
              <a:ext cx="69840" cy="6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02200" y="3703680"/>
              <a:ext cx="174600" cy="57924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45400" y="3610080"/>
              <a:ext cx="405000" cy="1150920"/>
            </a:xfrm>
            <a:prstGeom prst="ellipse">
              <a:avLst/>
            </a:prstGeom>
            <a:noFill/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04040" y="3732120"/>
              <a:ext cx="1183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SR A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07640" y="4005360"/>
              <a:ext cx="1509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CI-X Sequ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15920" y="4292640"/>
              <a:ext cx="1271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Trans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00080" y="4572000"/>
              <a:ext cx="2066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rupt &amp; CSR Up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45120" y="3809880"/>
              <a:ext cx="2225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856480" y="4132080"/>
              <a:ext cx="1517760" cy="918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834160" y="4437000"/>
              <a:ext cx="1554120" cy="92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00160" y="925560"/>
            <a:ext cx="384624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080 byte packets every 20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µ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 PRO/10GbE LR Adap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CI-X bus occupancy vs mmr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o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ed ti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mes based on PCI-X times from the logic analy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ected through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250920" y="3719520"/>
            <a:ext cx="3711600" cy="25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6ED2-8A84-4E97-85DE-FA5D1CEAFE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88720"/>
            <a:ext cx="748980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Arial"/>
              </a:rPr>
              <a:t>Tuning PCI-X: Throughput vs mmrbc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193840" y="847800"/>
            <a:ext cx="3711600" cy="18000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2176560" y="4529160"/>
            <a:ext cx="3717720" cy="18003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5889600" y="4497480"/>
            <a:ext cx="3665520" cy="1800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2190600" y="2671920"/>
            <a:ext cx="3718080" cy="18000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3840" y="938160"/>
            <a:ext cx="206244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taTag IA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.2 GHz Xe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00 MHz F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.7 – 4.0 Gbit.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LAC D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.0 GHz Xe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33 MHz F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.5 - 5.2 Gbit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penLab IA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.0 GHz Itan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22 MHz F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.2 - 5.7 Gbit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PU load is 1 CPU not 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5889600" y="852480"/>
            <a:ext cx="3665520" cy="18003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6"/>
          <a:stretch/>
        </p:blipFill>
        <p:spPr>
          <a:xfrm>
            <a:off x="5899320" y="2670120"/>
            <a:ext cx="366552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0911-AB20-4462-B524-2BF578162D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9040" y="240840"/>
            <a:ext cx="84200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10 GigEthernet at SC2003 BW Challe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0280" y="807840"/>
            <a:ext cx="725328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ree Server systems with 10 GigEthernet N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sed the DataTAG altAIMD stack 9000 byte M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nd mem-mem iperf TCP streams From SLAC/FNAL booth in Phoenix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al Alto PA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tt  17 ms ,  window 30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hared with Caltech bo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4.37 Gbit hstcp I=5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Then 2.87 Gbit I=16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Fall corresponds to 10 Gbit on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3.3Gbit Scalable I=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Tested 2 flows sum 1.9Gbit I=3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Chicago Star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tt 65 ms ,  window 60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hoenix CPU 2.2 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3.1 Gbit hstcp I=1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ccff"/>
                </a:solidFill>
                <a:latin typeface="Arial"/>
              </a:rPr>
              <a:t>Amsterdam S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tt 175 ms ,  window 200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hoenix CPU 2.2 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ccff"/>
                </a:solidFill>
                <a:latin typeface="Arial"/>
              </a:rPr>
              <a:t>4.35 Gbit hstcp I=6.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ery S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oth used Abilene to Chic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265640" y="1587600"/>
            <a:ext cx="5381640" cy="21175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4270320" y="3897360"/>
            <a:ext cx="5397480" cy="222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290-5A87-440A-90BA-7F551849F0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892080" y="298440"/>
            <a:ext cx="84200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ummary &amp; 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591840" y="1160280"/>
            <a:ext cx="843444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PRO/10GbE LR Adapt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driver gave stable throughput and worked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large MTU (9000 or 16114) – 1500 bytes gives ~2 Gbit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CI-X tuning mmrbc = 4096 bytes increase by 55% (3.2 to 5.7 Gbit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CI-X sequences clear on transmit gaps ~ 950 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: transmission (2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µ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s longer than receiving (18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µ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x rate 5.85 Gbit/s Rx rate 7.0 Gbit/s (Itanium) (PCI-X max 8.5Gbit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PU load considerable 60% Xenon 40% Itan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W of Memory system important – crosses 3 tim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sitive to OS/ Driver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study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1EB7-3F36-48C6-94B5-A948591EF5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4B66-2762-4DC2-A25E-D784BD3423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932040" y="811080"/>
            <a:ext cx="7319880" cy="54914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est setup with the CERN Open Lab Itanium syste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6B60-58D2-4350-9C0C-385B83A943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365040" y="754200"/>
            <a:ext cx="575640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1472 byte packets every 15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µs  Intel Pro/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PCI:64 bit 33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82%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CI:64 bit 66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65%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ata transfers </a:t>
            </a:r>
            <a:br>
              <a:rPr sz="1600"/>
            </a:b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alf as l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rcRect l="0" t="20483" r="0" b="13407"/>
          <a:stretch/>
        </p:blipFill>
        <p:spPr>
          <a:xfrm>
            <a:off x="4027320" y="1690560"/>
            <a:ext cx="5508720" cy="20844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308320" y="2270160"/>
            <a:ext cx="1236600" cy="495360"/>
          </a:xfr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 P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95840" y="2093760"/>
            <a:ext cx="0" cy="81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95840" y="2928960"/>
            <a:ext cx="0" cy="5526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79800" y="2814480"/>
            <a:ext cx="1633320" cy="425520"/>
          </a:xfr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 P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62400" y="2128680"/>
            <a:ext cx="614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80120" y="2128680"/>
            <a:ext cx="614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40680" y="2128680"/>
            <a:ext cx="614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12040" y="2128680"/>
            <a:ext cx="6159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071800" y="1857240"/>
            <a:ext cx="1471680" cy="411120"/>
          </a:xfr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 se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71800" y="1471680"/>
            <a:ext cx="1706400" cy="411120"/>
          </a:xfr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Trans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95400" y="3340080"/>
            <a:ext cx="2006640" cy="484200"/>
          </a:xfr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 Trans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743120" y="4027320"/>
            <a:ext cx="7791120" cy="2268720"/>
            <a:chOff x="1743120" y="4027320"/>
            <a:chExt cx="7791120" cy="2268720"/>
          </a:xfrm>
        </p:grpSpPr>
        <p:pic>
          <p:nvPicPr>
            <p:cNvPr id="376" name="" descr=""/>
            <p:cNvPicPr/>
            <p:nvPr/>
          </p:nvPicPr>
          <p:blipFill>
            <a:blip r:embed="rId2"/>
            <a:srcRect l="0" t="20674" r="0" b="12580"/>
            <a:stretch/>
          </p:blipFill>
          <p:spPr>
            <a:xfrm>
              <a:off x="4027680" y="4189320"/>
              <a:ext cx="5506560" cy="21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2203200" y="4761000"/>
              <a:ext cx="1236240" cy="494640"/>
            </a:xfr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 P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59480" y="4597200"/>
              <a:ext cx="720" cy="81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59480" y="5429160"/>
              <a:ext cx="720" cy="5526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77280" y="5301000"/>
              <a:ext cx="1633320" cy="406800"/>
            </a:xfr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ceive P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48000" y="4620240"/>
              <a:ext cx="349560" cy="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301440" y="4617000"/>
              <a:ext cx="264240" cy="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70360" y="4351320"/>
              <a:ext cx="1470600" cy="407880"/>
            </a:xfrm>
            <a:noFill/>
            <a:ln w="284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 set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91800" y="4027320"/>
              <a:ext cx="1705320" cy="407880"/>
            </a:xfrm>
            <a:noFill/>
            <a:ln w="284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 Transf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43120" y="5842080"/>
              <a:ext cx="2005560" cy="407880"/>
            </a:xfrm>
            <a:noFill/>
            <a:ln w="284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ceive Transf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425360" y="4620240"/>
              <a:ext cx="371880" cy="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593920" y="4613040"/>
              <a:ext cx="371880" cy="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1295280" y="128520"/>
            <a:ext cx="76327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1 GigE on IA32: PCI bus Activity 33 &amp; 66 MHz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3F2-F27C-43B9-9679-3E9DD95896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64840" y="944640"/>
            <a:ext cx="894852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DP/IP packets sent between back-to-back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milar processing to TCP/IP but no flow control &amp; congestion avoidance algorith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d UDPmon test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nd trip times using Request-Response UDP 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ncy as a function of frame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pe s given by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-mem copy(s) + pci + Gig Ethernet + pci + mem-mem copy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cept indicates processing times + HW latenc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grams of ‘singleton’ 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DP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 a controlled stream of UDP frames spaced at regular interv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y the frame size and the frame transmit spacing &amp; meas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ime of first and last frames recei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number packets received, lost, &amp; out of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gram inter-packet spacing received pa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 loss patt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way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U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interru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536840" y="279000"/>
            <a:ext cx="76104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Latency &amp; Throughput Meas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1846440"/>
            <a:ext cx="350532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ls us ab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of the IP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ay the HW ope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rupt coalesc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48360" y="5191200"/>
            <a:ext cx="385776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ls us ab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of the IP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ay the HW ope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city &amp; Available throughput of the LAN / MAN / W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768840" y="2387520"/>
                <a:ext cx="16905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data paths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b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FC65-F4D5-4E67-AB25-CDEBC22066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36840" y="279000"/>
            <a:ext cx="76104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The Throughput Meas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8160" y="1055520"/>
            <a:ext cx="83743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DP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 a controlled stream of UDP frames spaced at regular interv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413000" y="1849320"/>
            <a:ext cx="7873920" cy="2772000"/>
            <a:chOff x="1413000" y="1849320"/>
            <a:chExt cx="7873920" cy="2772000"/>
          </a:xfrm>
        </p:grpSpPr>
        <p:sp>
          <p:nvSpPr>
            <p:cNvPr id="65" name=""/>
            <p:cNvSpPr/>
            <p:nvPr/>
          </p:nvSpPr>
          <p:spPr>
            <a:xfrm>
              <a:off x="6365880" y="1933560"/>
              <a:ext cx="0" cy="24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94000" y="1925640"/>
              <a:ext cx="0" cy="24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95720" y="192564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5968800" y="2108160"/>
              <a:ext cx="49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293640" y="2108160"/>
              <a:ext cx="267516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3691080" y="1925640"/>
              <a:ext cx="267480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33400" y="1849320"/>
              <a:ext cx="14306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ero sta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64160" y="1925640"/>
              <a:ext cx="99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 d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95720" y="229068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95720" y="238284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95720" y="293040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94000" y="2565360"/>
              <a:ext cx="59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●●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95720" y="347976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5968800" y="3662280"/>
              <a:ext cx="49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293640" y="3662280"/>
              <a:ext cx="267516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3691080" y="3479400"/>
              <a:ext cx="267480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67000" y="3387600"/>
              <a:ext cx="16873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t remote statis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11840" y="3448080"/>
              <a:ext cx="257508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 statistic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. receiv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. lost + loss patt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. out-of-or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PU load &amp; no. 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-way del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25480" y="2200320"/>
              <a:ext cx="99072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 data frames 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ular interv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76800" y="238284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76800" y="248904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19760" y="2793960"/>
              <a:ext cx="59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●●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84720" y="326556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93000" y="3417840"/>
              <a:ext cx="49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0200" y="2290680"/>
              <a:ext cx="0" cy="6699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86720" y="2351160"/>
              <a:ext cx="9360" cy="1050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13000" y="3038400"/>
              <a:ext cx="1073160" cy="2970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 to s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46960" y="3036960"/>
              <a:ext cx="1568520" cy="3254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 to rece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46960" y="2503440"/>
              <a:ext cx="1582920" cy="3556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-packet 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Histogra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21480" y="2351160"/>
              <a:ext cx="0" cy="152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95720" y="397512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5968800" y="4157640"/>
              <a:ext cx="49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293640" y="4157640"/>
              <a:ext cx="267516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3691080" y="3974760"/>
              <a:ext cx="267480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67000" y="3882960"/>
              <a:ext cx="16873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nal end of 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50200" y="4068720"/>
              <a:ext cx="99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 d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146240" y="4764240"/>
            <a:ext cx="7562160" cy="1566360"/>
            <a:chOff x="1146240" y="4764240"/>
            <a:chExt cx="7562160" cy="1566360"/>
          </a:xfrm>
        </p:grpSpPr>
        <p:sp>
          <p:nvSpPr>
            <p:cNvPr id="102" name=""/>
            <p:cNvSpPr/>
            <p:nvPr/>
          </p:nvSpPr>
          <p:spPr>
            <a:xfrm>
              <a:off x="1146240" y="5670360"/>
              <a:ext cx="7424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01840" y="5510160"/>
              <a:ext cx="833400" cy="159840"/>
            </a:xfrm>
            <a:prstGeom prst="rect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1840" y="4870440"/>
              <a:ext cx="0" cy="14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93240" y="4879800"/>
              <a:ext cx="0" cy="79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76400" y="5265720"/>
              <a:ext cx="0" cy="10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63920" y="5513400"/>
              <a:ext cx="833400" cy="159840"/>
            </a:xfrm>
            <a:prstGeom prst="rect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76400" y="5505480"/>
              <a:ext cx="833760" cy="159840"/>
            </a:xfrm>
            <a:prstGeom prst="rect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59480" y="5513400"/>
              <a:ext cx="833760" cy="159840"/>
            </a:xfrm>
            <a:prstGeom prst="rect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36760" y="4876560"/>
              <a:ext cx="67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35240" y="5265720"/>
              <a:ext cx="0" cy="40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49720" y="509904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 by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15360" y="4764240"/>
              <a:ext cx="1680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mber of pack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28840" y="6172200"/>
              <a:ext cx="145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87320" y="5995800"/>
              <a:ext cx="924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90720" y="587376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28920" y="5337000"/>
              <a:ext cx="4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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A06F-D41F-4F46-84B4-CB35A42229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36840" y="279000"/>
            <a:ext cx="76104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The PCI Bus &amp; Gigabit Ethernet Meas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7800" y="1055160"/>
            <a:ext cx="838836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I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Analyzer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I Probe cards in sending 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gabit Ethernet Fiber Probe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I Probe cards in receiving 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35400" y="2906640"/>
            <a:ext cx="8629920" cy="3177360"/>
            <a:chOff x="635400" y="2906640"/>
            <a:chExt cx="8629920" cy="3177360"/>
          </a:xfrm>
        </p:grpSpPr>
        <p:sp>
          <p:nvSpPr>
            <p:cNvPr id="121" name=""/>
            <p:cNvSpPr/>
            <p:nvPr/>
          </p:nvSpPr>
          <p:spPr>
            <a:xfrm>
              <a:off x="1946160" y="4286160"/>
              <a:ext cx="115416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05320" y="2906640"/>
              <a:ext cx="1243080" cy="13136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igab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th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5536800" y="3562200"/>
              <a:ext cx="1800" cy="20988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05160" y="5703840"/>
              <a:ext cx="532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184560" y="3258720"/>
              <a:ext cx="376236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201840" y="3560760"/>
              <a:ext cx="3762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22400" y="3664080"/>
              <a:ext cx="0" cy="11700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5400" y="3259080"/>
              <a:ext cx="7185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6280" y="4746600"/>
              <a:ext cx="74628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6120" y="4078440"/>
              <a:ext cx="116820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ip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2388600" y="3560760"/>
              <a:ext cx="1168200" cy="3988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885160" y="3697200"/>
              <a:ext cx="0" cy="11700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98160" y="3268800"/>
              <a:ext cx="7185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519040" y="4756320"/>
              <a:ext cx="74628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97600" y="4295880"/>
              <a:ext cx="115416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6516000" y="3564000"/>
              <a:ext cx="1168200" cy="3988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07480" y="4095720"/>
              <a:ext cx="116820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ip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31360" y="5380200"/>
              <a:ext cx="1852560" cy="70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gic Analy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405160" y="4354560"/>
              <a:ext cx="0" cy="13492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7711920" y="4341960"/>
              <a:ext cx="0" cy="13492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535640" y="3281400"/>
              <a:ext cx="1440" cy="20988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AA3D-0490-42C8-B8DE-8E06181440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71080"/>
            <a:ext cx="84009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ample: The 1 Gigabit NIC Intel pro/100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1840" y="331164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00680" y="8715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55120" y="3354480"/>
            <a:ext cx="1532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Bus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836960" y="1173240"/>
            <a:ext cx="4905360" cy="2227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44600" y="968400"/>
            <a:ext cx="394812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therboard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Supermicro P4DP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ipset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E7500 (Plum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U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al Xeon 2 2GHz with 512k L2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 bus 400 MHz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I-X 64 bit 66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P Linux Kernel 2.4.19 S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TU 1500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Intel PRO/1000 X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360440" y="3392640"/>
            <a:ext cx="3167280" cy="1533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62080" y="4975200"/>
            <a:ext cx="4708440" cy="126036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5006880" y="3414600"/>
            <a:ext cx="4702320" cy="3120120"/>
            <a:chOff x="5006880" y="3414600"/>
            <a:chExt cx="4702320" cy="3120120"/>
          </a:xfrm>
        </p:grpSpPr>
        <p:pic>
          <p:nvPicPr>
            <p:cNvPr id="151" name="" descr=""/>
            <p:cNvPicPr/>
            <p:nvPr/>
          </p:nvPicPr>
          <p:blipFill>
            <a:blip r:embed="rId4"/>
            <a:stretch/>
          </p:blipFill>
          <p:spPr>
            <a:xfrm>
              <a:off x="5006880" y="3821040"/>
              <a:ext cx="4702320" cy="24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 flipV="1">
              <a:off x="5952960" y="4828680"/>
              <a:ext cx="3002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946920" y="4824000"/>
              <a:ext cx="23976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7920000" y="4826160"/>
              <a:ext cx="2984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8904240" y="4827600"/>
              <a:ext cx="2970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49880" y="6227640"/>
              <a:ext cx="15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eive Trans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136920" y="3556080"/>
              <a:ext cx="1220760" cy="124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09440" y="34146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d Trans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8070840" y="5776920"/>
              <a:ext cx="22860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7639200" y="5764320"/>
              <a:ext cx="506160" cy="593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9064800" y="5780160"/>
              <a:ext cx="22860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059600" y="5778000"/>
              <a:ext cx="228600" cy="18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070680" y="5778000"/>
              <a:ext cx="228600" cy="18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929-B1CA-48CF-9F60-21991DA53B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07880" y="213840"/>
            <a:ext cx="77533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Data Flow: SuperMicro 370DLE: SysK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6360" y="826920"/>
            <a:ext cx="789300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therboard: SuperMicro 370DLE  Chipse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Works III LE Chip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U: PIII 800 MHz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CI:64 bit 66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dHat 7.1 Kernel 2.4.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6080" y="5110200"/>
            <a:ext cx="789300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 bytes 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100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~8 us for send or rece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6880" y="5992920"/>
            <a:ext cx="78933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&amp; Application overhead ~ 10 us /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455840" y="1346040"/>
            <a:ext cx="8200440" cy="4385520"/>
            <a:chOff x="1455840" y="1346040"/>
            <a:chExt cx="8200440" cy="438552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3422520" y="1828800"/>
              <a:ext cx="5634000" cy="299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" name=""/>
            <p:cNvGrpSpPr/>
            <p:nvPr/>
          </p:nvGrpSpPr>
          <p:grpSpPr>
            <a:xfrm>
              <a:off x="1536840" y="2271600"/>
              <a:ext cx="2479680" cy="1096920"/>
              <a:chOff x="1536840" y="2271600"/>
              <a:chExt cx="2479680" cy="1096920"/>
            </a:xfrm>
          </p:grpSpPr>
          <p:sp>
            <p:nvSpPr>
              <p:cNvPr id="171" name=""/>
              <p:cNvSpPr/>
              <p:nvPr/>
            </p:nvSpPr>
            <p:spPr>
              <a:xfrm>
                <a:off x="1536840" y="2777040"/>
                <a:ext cx="1265400" cy="591480"/>
              </a:xfr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nd PC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016520" y="2271600"/>
                <a:ext cx="0" cy="971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455840" y="3309840"/>
              <a:ext cx="2563560" cy="676080"/>
              <a:chOff x="1455840" y="3309840"/>
              <a:chExt cx="2563560" cy="676080"/>
            </a:xfrm>
          </p:grpSpPr>
          <p:sp>
            <p:nvSpPr>
              <p:cNvPr id="174" name=""/>
              <p:cNvSpPr/>
              <p:nvPr/>
            </p:nvSpPr>
            <p:spPr>
              <a:xfrm>
                <a:off x="4019400" y="3309840"/>
                <a:ext cx="0" cy="659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455840" y="3578040"/>
                <a:ext cx="1672200" cy="407880"/>
              </a:xfr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eive PC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4475160" y="3009600"/>
              <a:ext cx="14400" cy="2702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87760" y="5570280"/>
              <a:ext cx="3611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77320" y="3011400"/>
              <a:ext cx="14040" cy="270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82040" y="5394240"/>
              <a:ext cx="796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~36 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624560" y="2928240"/>
              <a:ext cx="26172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4808160" y="1546200"/>
              <a:ext cx="1863720" cy="1390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29040" y="1358640"/>
              <a:ext cx="146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16640" y="3821040"/>
              <a:ext cx="636840" cy="11937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86280" y="1346040"/>
              <a:ext cx="169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 CSR set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552920" y="1522080"/>
              <a:ext cx="388800" cy="8924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191360" y="3798720"/>
              <a:ext cx="26208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916600" y="4105080"/>
              <a:ext cx="111600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30080" y="4860720"/>
              <a:ext cx="172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ceive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46680" y="487656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 on Ethernet Fib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840200" y="4122720"/>
              <a:ext cx="1263600" cy="850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E7C-8FA4-4E28-8FBE-3254F484BD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5008" r="0" b="0"/>
          <a:stretch/>
        </p:blipFill>
        <p:spPr>
          <a:xfrm>
            <a:off x="1057320" y="765000"/>
            <a:ext cx="7723080" cy="55026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49320" y="199800"/>
            <a:ext cx="840096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10 Gigabit Ethernet NIC with the PCI-X probe car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8F2A-E88A-4A70-90D0-5D01D6ACE6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049400" y="749160"/>
            <a:ext cx="7415280" cy="5562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0560" y="218880"/>
            <a:ext cx="84013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Intel PRO/10GbE LR Adapter in the HP rx2600 syst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04F1-E413-4F37-9217-E66B089BD2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17:14:18Z</dcterms:created>
  <dc:creator>R.Hughes-Jones</dc:creator>
  <dc:description/>
  <dc:language>en-US</dc:language>
  <cp:lastModifiedBy>R. Hughes-Jones</cp:lastModifiedBy>
  <dcterms:modified xsi:type="dcterms:W3CDTF">2004-02-16T14:42:59Z</dcterms:modified>
  <cp:revision>132</cp:revision>
  <dc:subject/>
  <dc:title>PowerPoint Presentation</dc:title>
</cp:coreProperties>
</file>