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2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3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53.wmf" ContentType="image/x-wmf"/>
  <Override PartName="/ppt/media/image51.png" ContentType="image/png"/>
  <Override PartName="/ppt/media/image52.wmf" ContentType="image/x-wmf"/>
  <Override PartName="/ppt/media/image49.png" ContentType="image/png"/>
  <Override PartName="/ppt/media/image7.wmf" ContentType="image/x-wmf"/>
  <Override PartName="/ppt/media/image32.png" ContentType="image/png"/>
  <Override PartName="/ppt/media/image29.png" ContentType="image/png"/>
  <Override PartName="/ppt/media/image57.wmf" ContentType="image/x-wmf"/>
  <Override PartName="/ppt/media/image34.png" ContentType="image/png"/>
  <Override PartName="/ppt/media/image37.wmf" ContentType="image/x-wmf"/>
  <Override PartName="/ppt/media/image12.jpeg" ContentType="image/jpeg"/>
  <Override PartName="/ppt/media/image4.png" ContentType="image/png"/>
  <Override PartName="/ppt/media/image16.png" ContentType="image/png"/>
  <Override PartName="/ppt/media/image56.wmf" ContentType="image/x-wmf"/>
  <Override PartName="/ppt/media/image13.jpeg" ContentType="image/jpeg"/>
  <Override PartName="/ppt/media/image47.wmf" ContentType="image/x-wmf"/>
  <Override PartName="/ppt/media/image10.wmf" ContentType="image/x-wmf"/>
  <Override PartName="/ppt/media/image27.png" ContentType="image/png"/>
  <Override PartName="/ppt/media/image17.png" ContentType="image/png"/>
  <Override PartName="/ppt/media/image5.png" ContentType="image/png"/>
  <Override PartName="/ppt/media/image28.png" ContentType="image/png"/>
  <Override PartName="/ppt/media/image1.wmf" ContentType="image/x-wmf"/>
  <Override PartName="/ppt/media/image62.png" ContentType="image/png"/>
  <Override PartName="/ppt/media/image23.wmf" ContentType="image/x-wmf"/>
  <Override PartName="/ppt/media/image25.wmf" ContentType="image/x-wmf"/>
  <Override PartName="/ppt/media/image58.wmf" ContentType="image/x-wmf"/>
  <Override PartName="/ppt/media/image21.wmf" ContentType="image/x-wmf"/>
  <Override PartName="/ppt/media/image60.wmf" ContentType="image/x-wmf"/>
  <Override PartName="/ppt/media/image24.wmf" ContentType="image/x-wmf"/>
  <Override PartName="/ppt/media/image20.wmf" ContentType="image/x-wmf"/>
  <Override PartName="/ppt/media/image63.png" ContentType="image/png"/>
  <Override PartName="/ppt/media/image59.wmf" ContentType="image/x-wmf"/>
  <Override PartName="/ppt/media/image22.wmf" ContentType="image/x-wmf"/>
  <Override PartName="/ppt/media/image61.jpeg" ContentType="image/jpeg"/>
  <Override PartName="/ppt/media/image8.wmf" ContentType="image/x-wmf"/>
  <Override PartName="/ppt/media/image38.wmf" ContentType="image/x-wmf"/>
  <Override PartName="/ppt/media/image55.wmf" ContentType="image/x-wmf"/>
  <Override PartName="/ppt/media/image2.png" ContentType="image/png"/>
  <Override PartName="/ppt/media/image14.png" ContentType="image/png"/>
  <Override PartName="/ppt/media/image54.wmf" ContentType="image/x-wmf"/>
  <Override PartName="/ppt/media/image9.wmf" ContentType="image/x-wmf"/>
  <Override PartName="/ppt/media/image26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11.wmf" ContentType="image/x-wmf"/>
  <Override PartName="/ppt/media/image50.png" ContentType="image/png"/>
  <Override PartName="/ppt/media/image30.png" ContentType="image/png"/>
  <Override PartName="/ppt/media/image31.png" ContentType="image/png"/>
  <Override PartName="/ppt/media/image35.wmf" ContentType="image/x-wmf"/>
  <Override PartName="/ppt/media/image36.wmf" ContentType="image/x-wmf"/>
  <Override PartName="/ppt/media/image39.png" ContentType="image/png"/>
  <Override PartName="/ppt/media/image42.wmf" ContentType="image/x-wmf"/>
  <Override PartName="/ppt/media/image18.png" ContentType="image/png"/>
  <Override PartName="/ppt/media/image6.png" ContentType="image/png"/>
  <Override PartName="/ppt/media/image40.wmf" ContentType="image/x-wmf"/>
  <Override PartName="/ppt/media/image19.png" ContentType="image/png"/>
  <Override PartName="/ppt/media/image41.wmf" ContentType="image/x-wmf"/>
  <Override PartName="/ppt/media/image43.wmf" ContentType="image/x-wmf"/>
  <Override PartName="/ppt/media/image44.wmf" ContentType="image/x-wmf"/>
  <Override PartName="/ppt/media/image45.wmf" ContentType="image/x-wmf"/>
  <Override PartName="/ppt/media/image46.wmf" ContentType="image/x-wmf"/>
  <Override PartName="/ppt/media/image4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907588" cy="6858000"/>
  <p:notesSz cx="6781800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824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43360" y="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707760" y="742680"/>
            <a:ext cx="5365800" cy="371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04680" y="4704840"/>
            <a:ext cx="497196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941076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43360" y="941076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0D374-7DD6-46E1-8855-71A7437E34D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708120" y="743040"/>
            <a:ext cx="5365800" cy="371484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904680" y="4704840"/>
            <a:ext cx="497196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al Itanium 2 1GHz with 512k L2 cac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708120" y="743040"/>
            <a:ext cx="5365800" cy="371484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904680" y="4704840"/>
            <a:ext cx="497196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al Itanium 2 1GHz with 512k L2 cac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708120" y="743040"/>
            <a:ext cx="5365800" cy="371484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904680" y="4704840"/>
            <a:ext cx="497196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al Itanium 2 1GHz with 512k L2 cac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708120" y="743040"/>
            <a:ext cx="5365800" cy="371484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904680" y="4704840"/>
            <a:ext cx="497196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al Itanium 2 1GHz with 512k L2 cac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708120" y="743040"/>
            <a:ext cx="5365800" cy="371484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904680" y="4704840"/>
            <a:ext cx="497196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al Itanium 2 1GHz with 512k L2 cac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708120" y="743040"/>
            <a:ext cx="5365800" cy="371484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904680" y="4704840"/>
            <a:ext cx="497196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al Itanium 2 1GHz with 512k L2 cac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708120" y="743040"/>
            <a:ext cx="5365800" cy="371484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904680" y="4704840"/>
            <a:ext cx="497196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al Itanium 2 1GHz with 512k L2 cac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708120" y="743040"/>
            <a:ext cx="5365800" cy="371484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04680" y="4704840"/>
            <a:ext cx="497196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al Itanium 2 1GHz with 512k L2 cac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708120" y="743040"/>
            <a:ext cx="5365800" cy="371484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904680" y="4704840"/>
            <a:ext cx="497196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al Itanium 2 1GHz with 512k L2 cac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3D46D-7689-4BA4-9D22-05E70DBB0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8400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E6ACE-7229-4412-BD85-6935CF8BD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8400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E05FA-D593-4DFD-91F3-B6A60820C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8400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33645-5A3D-43A4-96C2-22E5C6E65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8400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9E6B6-2E03-47EA-9734-CC4B4EA0A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8400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A441F-262A-44C6-AA3C-C25657FBE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8400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AE127-BD5F-45E6-BDE1-3AA1D1EBA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8400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D6FEB-2A34-426E-9CAC-A1C236C62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62120" y="609120"/>
            <a:ext cx="840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C76C4-D793-4B0D-AF4B-E1355AA58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8400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0989B-B68D-45A7-A5FC-89AD06552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8400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87D0B-4B51-47AE-88D9-993A5B47F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8400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B5F18-829D-40BC-A3AE-2F03F1A0C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8400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8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4284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3333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cc"/>
                </a:solidFill>
                <a:latin typeface="Arial"/>
              </a:rPr>
              <a:t>PFLDNet Argonne Feb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</a:rPr>
              <a:t>R. Hughes-Jones  Manches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B2EC2-D4EC-4C11-85E3-8D3DA20589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9061560" y="157320"/>
            <a:ext cx="674640" cy="75852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100080" y="193680"/>
            <a:ext cx="1104840" cy="685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image" Target="../media/image36.wmf"/><Relationship Id="rId3" Type="http://schemas.openxmlformats.org/officeDocument/2006/relationships/image" Target="../media/image37.wm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image" Target="../media/image41.wmf"/><Relationship Id="rId3" Type="http://schemas.openxmlformats.org/officeDocument/2006/relationships/image" Target="../media/image42.wm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image" Target="../media/image44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5.wmf"/><Relationship Id="rId2" Type="http://schemas.openxmlformats.org/officeDocument/2006/relationships/image" Target="../media/image46.wmf"/><Relationship Id="rId3" Type="http://schemas.openxmlformats.org/officeDocument/2006/relationships/image" Target="../media/image47.wmf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wmf"/><Relationship Id="rId6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3.wmf"/><Relationship Id="rId2" Type="http://schemas.openxmlformats.org/officeDocument/2006/relationships/image" Target="../media/image54.wmf"/><Relationship Id="rId3" Type="http://schemas.openxmlformats.org/officeDocument/2006/relationships/image" Target="../media/image55.wmf"/><Relationship Id="rId4" Type="http://schemas.openxmlformats.org/officeDocument/2006/relationships/image" Target="../media/image56.wmf"/><Relationship Id="rId5" Type="http://schemas.openxmlformats.org/officeDocument/2006/relationships/image" Target="../media/image57.wmf"/><Relationship Id="rId6" Type="http://schemas.openxmlformats.org/officeDocument/2006/relationships/image" Target="../media/image58.wmf"/><Relationship Id="rId7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9.wmf"/><Relationship Id="rId2" Type="http://schemas.openxmlformats.org/officeDocument/2006/relationships/image" Target="../media/image60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2120" y="488880"/>
            <a:ext cx="8550000" cy="23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UDP Performance and PCI-X Activity of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he Intel 10 Gigabit Etherne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Adapter on: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P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rx2600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ual Itanium 2 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SuperMicro P4DP8-2G Dual Xenon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ell Poweredge 2650 Dual Xen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246320" y="3367080"/>
            <a:ext cx="7627680" cy="27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Arial"/>
                <a:ea typeface="宋体"/>
              </a:rPr>
              <a:t>Richard Hughes-Jones</a:t>
            </a:r>
            <a:br>
              <a:rPr sz="2000"/>
            </a:br>
            <a:br>
              <a:rPr sz="1800"/>
            </a:br>
            <a:br>
              <a:rPr sz="1800"/>
            </a:br>
            <a:r>
              <a:rPr b="1" lang="en-GB" sz="1800" spc="-1" strike="noStrike">
                <a:solidFill>
                  <a:srgbClr val="0000ff"/>
                </a:solidFill>
                <a:latin typeface="Arial"/>
                <a:ea typeface="宋体"/>
              </a:rPr>
              <a:t>Many people helped including:</a:t>
            </a:r>
            <a:br>
              <a:rPr sz="1800"/>
            </a:b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Sverre Jarp and Glen Hisdal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CERN Open Lab 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Sylvain Ravot, Olivier Martin and Elise Guyot   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  <a:ea typeface="宋体"/>
              </a:rPr>
              <a:t>D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ataTAG project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  <a:ea typeface="宋体"/>
              </a:rPr>
              <a:t> </a:t>
            </a:r>
            <a:br>
              <a:rPr sz="1800"/>
            </a:br>
            <a:br>
              <a:rPr sz="1800"/>
            </a:br>
            <a:r>
              <a:rPr b="1" lang="en-GB" sz="1800" spc="-1" strike="noStrike">
                <a:solidFill>
                  <a:srgbClr val="0000ff"/>
                </a:solidFill>
                <a:latin typeface="Arial"/>
                <a:ea typeface="宋体"/>
              </a:rPr>
              <a:t>Les Cottrell, Connie Logg and Gary Buhrmaster SLAC</a:t>
            </a:r>
            <a:r>
              <a:rPr b="1" lang="en-GB" sz="2000" spc="-1" strike="noStrike">
                <a:solidFill>
                  <a:srgbClr val="0000ff"/>
                </a:solidFill>
                <a:latin typeface="Arial"/>
                <a:ea typeface="宋体"/>
              </a:rPr>
              <a:t> </a:t>
            </a:r>
            <a:br>
              <a:rPr sz="2000"/>
            </a:br>
            <a:r>
              <a:rPr b="1" lang="en-GB" sz="2000" spc="-1" strike="noStrike">
                <a:solidFill>
                  <a:srgbClr val="0000ff"/>
                </a:solidFill>
                <a:latin typeface="Arial"/>
                <a:ea typeface="宋体"/>
              </a:rPr>
              <a:t> </a:t>
            </a:r>
            <a:br>
              <a:rPr sz="2000"/>
            </a:br>
            <a:r>
              <a:rPr b="1" lang="en-GB" sz="1800" spc="-1" strike="noStrike">
                <a:solidFill>
                  <a:srgbClr val="0000ff"/>
                </a:solidFill>
                <a:latin typeface="Arial"/>
                <a:ea typeface="宋体"/>
              </a:rPr>
              <a:t>Stephen Dallison MB-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57120" y="4867200"/>
            <a:ext cx="1162080" cy="540000"/>
          </a:xfrm>
          <a:prstGeom prst="rect">
            <a:avLst/>
          </a:prstGeom>
          <a:ln w="0">
            <a:noFill/>
          </a:ln>
        </p:spPr>
      </p:pic>
      <p:pic>
        <p:nvPicPr>
          <p:cNvPr id="53" name="pinger" descr=""/>
          <p:cNvPicPr/>
          <p:nvPr/>
        </p:nvPicPr>
        <p:blipFill>
          <a:blip r:embed="rId2"/>
          <a:stretch/>
        </p:blipFill>
        <p:spPr>
          <a:xfrm>
            <a:off x="8381880" y="5300640"/>
            <a:ext cx="809640" cy="5382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rcRect l="12087" t="24023" r="2878" b="21034"/>
          <a:stretch/>
        </p:blipFill>
        <p:spPr>
          <a:xfrm>
            <a:off x="311040" y="5740560"/>
            <a:ext cx="1397160" cy="5396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8163000" y="4067280"/>
            <a:ext cx="1147680" cy="539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AE920-CFE6-4632-8330-8A80581FFF0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94920" y="228600"/>
            <a:ext cx="74898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66"/>
                </a:solidFill>
                <a:latin typeface="Arial"/>
              </a:rPr>
              <a:t>10 GigE on Itanium IA64: UDP Latency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87200" y="954000"/>
            <a:ext cx="4276800" cy="536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Motherboard: HP rx2600 IA 6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hipset: HPzx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PU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ual Itanium 2 1GHz with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12k L2 cac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 bus dual 622 MHz  4.3 GByte/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CI-X 133 MH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P Linux Kernel 2.5.72 SM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l PRO/10GbE LR Server Adapte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IC driver wi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80000"/>
              </a:lnSpc>
              <a:spcBef>
                <a:spcPts val="400"/>
              </a:spcBef>
              <a:buClr>
                <a:srgbClr val="0000ff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xIntDelay=0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80000"/>
              </a:lnSpc>
              <a:spcBef>
                <a:spcPts val="400"/>
              </a:spcBef>
              <a:buClr>
                <a:srgbClr val="0000ff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sumRX=1 XsumTX=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80000"/>
              </a:lnSpc>
              <a:spcBef>
                <a:spcPts val="400"/>
              </a:spcBef>
              <a:buClr>
                <a:srgbClr val="0000ff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xDescriptors=2048 TxDescriptors=204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TU 1500 by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Latency 100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&amp; very well beha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Latency Slope  </a:t>
            </a: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0.0033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µ</a:t>
            </a: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s/by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B2B Expect:     </a:t>
            </a: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0.00268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µ</a:t>
            </a: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s/by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80000"/>
              </a:lnSpc>
              <a:spcBef>
                <a:spcPts val="400"/>
              </a:spcBef>
              <a:buClr>
                <a:srgbClr val="0000ff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CI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0.00188 *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80000"/>
              </a:lnSpc>
              <a:spcBef>
                <a:spcPts val="400"/>
              </a:spcBef>
              <a:buClr>
                <a:srgbClr val="0000ff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10Gig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0.000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80000"/>
              </a:lnSpc>
              <a:spcBef>
                <a:spcPts val="400"/>
              </a:spcBef>
              <a:buClr>
                <a:srgbClr val="0000ff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CI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0.0018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4308480" y="3735360"/>
            <a:ext cx="5381640" cy="244008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4311720" y="1166760"/>
            <a:ext cx="5381640" cy="2428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29895-CB0C-4522-96D9-FDB0ABA435B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95080" y="228600"/>
            <a:ext cx="74898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66"/>
                </a:solidFill>
                <a:latin typeface="Arial"/>
              </a:rPr>
              <a:t>10 GigE on Itanium IA64: Latency Histograms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29680" y="1039680"/>
            <a:ext cx="7861320" cy="536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uble peak structure with the peaks separated by 3-4 µ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aks are ~1-2 µs wi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ilar to that observed with 1 Gbit Ethernet NICs on IA32 architectur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4700520" y="4400640"/>
            <a:ext cx="4243320" cy="168588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299880" y="2379600"/>
            <a:ext cx="4218120" cy="165744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4694400" y="2370240"/>
            <a:ext cx="4224240" cy="16668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4"/>
          <a:stretch/>
        </p:blipFill>
        <p:spPr>
          <a:xfrm>
            <a:off x="293760" y="4395960"/>
            <a:ext cx="4235400" cy="1676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0150B-3EE2-4F0E-AB13-AAE5659EC0D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495080" y="228600"/>
            <a:ext cx="74898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66"/>
                </a:solidFill>
                <a:latin typeface="Arial"/>
              </a:rPr>
              <a:t>10 GigE on Itanium IA64: UDP Throughput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47680" y="1031760"/>
            <a:ext cx="3543120" cy="55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cc"/>
                </a:solidFill>
                <a:latin typeface="Arial"/>
              </a:rPr>
              <a:t>HP Linux Kernel 2.5.72 SMP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TU 16114 by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ax throughput </a:t>
            </a: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5.749 Gbit/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nt on every pack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No packet loss in 10M pack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Sending host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1 CPU is id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14000-16080 byte packets, one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CPU is 40% in kernel m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the packet size decreases load rises to ~90% for packets of 4000 bytes or les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ff"/>
                </a:solidFill>
                <a:latin typeface="Arial"/>
              </a:rPr>
              <a:t>Receiving host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both CPUs bus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16114 bytes 40% kernel m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mall packets 80 % kernel m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3300"/>
                </a:solidFill>
                <a:latin typeface="Arial"/>
              </a:rPr>
              <a:t>TCP </a:t>
            </a: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 gensink data rate was </a:t>
            </a:r>
            <a:br>
              <a:rPr sz="1400"/>
            </a:b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745 MBytes/s = 5.96 Gbit/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3633840" y="4770360"/>
            <a:ext cx="5775120" cy="17748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2"/>
          <a:stretch/>
        </p:blipFill>
        <p:spPr>
          <a:xfrm>
            <a:off x="3633840" y="3112920"/>
            <a:ext cx="5775120" cy="177516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3"/>
          <a:stretch/>
        </p:blipFill>
        <p:spPr>
          <a:xfrm>
            <a:off x="3627360" y="885960"/>
            <a:ext cx="5761080" cy="2342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985D8-4F6E-456B-A62D-5F7F493869F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338120" y="228600"/>
            <a:ext cx="76471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66"/>
                </a:solidFill>
                <a:latin typeface="Arial"/>
              </a:rPr>
              <a:t>10 GigE on Itanium IA64: UDP Throughput </a:t>
            </a:r>
            <a:r>
              <a:rPr b="0" lang="en-GB" sz="2400" spc="-1" strike="noStrike">
                <a:solidFill>
                  <a:srgbClr val="cc0066"/>
                </a:solidFill>
                <a:latin typeface="Arial"/>
              </a:rPr>
              <a:t>[04]</a:t>
            </a:r>
            <a:r>
              <a:rPr b="0" lang="en-GB" sz="2800" spc="-1" strike="noStrike">
                <a:solidFill>
                  <a:srgbClr val="cc0066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47680" y="1060560"/>
            <a:ext cx="3543120" cy="53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cc"/>
                </a:solidFill>
                <a:latin typeface="Arial"/>
              </a:rPr>
              <a:t>HP Linux Kernel 2.6.1 #17 SMP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TU 16114 by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ax throughput </a:t>
            </a: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5.81 Gbit/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nt on every pack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ome packet loss pkts &lt; 4000 by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Sending host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1 CPU is idle – but swap o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14000-16080 byte packets, one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CPU is 20-30% in kernel m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the packet size decreases load rises to ~90% for packets of 4000 bytes or les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ff"/>
                </a:solidFill>
                <a:latin typeface="Arial"/>
              </a:rPr>
              <a:t>Receiving host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 CPU is idle – but swap o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16114 bytes 40% kernel mode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mall packets 70 % kernel m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3716280" y="878040"/>
            <a:ext cx="5624640" cy="218736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3720960" y="2952720"/>
            <a:ext cx="5631120" cy="186696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3"/>
          <a:stretch/>
        </p:blipFill>
        <p:spPr>
          <a:xfrm>
            <a:off x="3720960" y="4648320"/>
            <a:ext cx="5631120" cy="1874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451EB-CEAB-43E8-82F8-E8B27373D95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200160" y="939600"/>
            <a:ext cx="7907040" cy="61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ff"/>
                </a:solidFill>
                <a:latin typeface="Arial"/>
              </a:rPr>
              <a:t>16080 byte packets every 200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  <a:ea typeface="Arial"/>
              </a:rPr>
              <a:t>µs      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Intel PRO/10GbE LR Server Adapter MTU 161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ff"/>
                </a:solidFill>
                <a:latin typeface="Arial"/>
              </a:rPr>
              <a:t>setpci -s 02:1.0 e6.b=2e     (22 26 2a )        </a:t>
            </a: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mmrbc 4096 bytes</a:t>
            </a:r>
            <a:r>
              <a:rPr b="1" lang="en-GB" sz="1400" spc="-1" strike="noStrike">
                <a:solidFill>
                  <a:srgbClr val="0000ff"/>
                </a:solidFill>
                <a:latin typeface="Arial"/>
              </a:rPr>
              <a:t>   (512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024  2048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92240" y="4861080"/>
            <a:ext cx="5083200" cy="16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CI-X Signals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transmit - memory to NIC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rupt and processing: 48.4 µs after start</a:t>
            </a: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transfer takes ~22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µ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Data transfer rate over PCI-X: 5.86 Gbit/s</a:t>
            </a: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295280" y="128520"/>
            <a:ext cx="763272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66"/>
                </a:solidFill>
                <a:latin typeface="Arial"/>
              </a:rPr>
              <a:t>10 GigE on Itanium IA64: PCI-X bus Activ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477720" y="1474920"/>
            <a:ext cx="4372200" cy="267156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1243080" y="3603600"/>
            <a:ext cx="1666800" cy="1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07640" y="4154400"/>
            <a:ext cx="118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R A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H="1">
            <a:off x="1095480" y="3670200"/>
            <a:ext cx="155520" cy="57168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173240" y="2139840"/>
            <a:ext cx="142920" cy="1543320"/>
          </a:xfrm>
          <a:prstGeom prst="ellipse">
            <a:avLst/>
          </a:prstGeom>
          <a:noFill/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02240" y="4427640"/>
            <a:ext cx="20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nsfer of 16114 by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1965240" y="3605040"/>
            <a:ext cx="192240" cy="908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97080" y="4435560"/>
            <a:ext cx="247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CI-X bursts 256 by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2300040" y="3398760"/>
            <a:ext cx="290520" cy="110484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4917960" y="1469880"/>
            <a:ext cx="4988160" cy="4786560"/>
            <a:chOff x="4917960" y="1469880"/>
            <a:chExt cx="4988160" cy="4786560"/>
          </a:xfrm>
        </p:grpSpPr>
        <p:sp>
          <p:nvSpPr>
            <p:cNvPr id="228" name=""/>
            <p:cNvSpPr/>
            <p:nvPr/>
          </p:nvSpPr>
          <p:spPr>
            <a:xfrm>
              <a:off x="4917960" y="4881600"/>
              <a:ext cx="4988160" cy="13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457200" indent="-457200">
                <a:lnSpc>
                  <a:spcPct val="80000"/>
                </a:lnSpc>
                <a:spcBef>
                  <a:spcPts val="400"/>
                </a:spcBef>
                <a:buClr>
                  <a:srgbClr val="ff0000"/>
                </a:buClr>
                <a:buFont typeface="Wingdings" charset="2"/>
                <a:buChar char="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ade up of 4 PCI-X sequences of ~4.55 µs then a gap of 700 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80000"/>
                </a:lnSpc>
                <a:spcBef>
                  <a:spcPts val="400"/>
                </a:spcBef>
                <a:buClr>
                  <a:srgbClr val="ff0000"/>
                </a:buClr>
                <a:buFont typeface="Wingdings" charset="2"/>
                <a:buChar char="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equence contains 16 PCI bursts 256 byt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80000"/>
                </a:lnSpc>
                <a:spcBef>
                  <a:spcPts val="400"/>
                </a:spcBef>
                <a:buClr>
                  <a:srgbClr val="ff0000"/>
                </a:buClr>
                <a:buFont typeface="Wingdings" charset="2"/>
                <a:buChar char="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Sequence length 4096 bytes ( mmrbc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80000"/>
                </a:lnSpc>
                <a:spcBef>
                  <a:spcPts val="400"/>
                </a:spcBef>
                <a:buClr>
                  <a:srgbClr val="ff0000"/>
                </a:buClr>
                <a:buFont typeface="Wingdings" charset="2"/>
                <a:buChar char="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80000"/>
                </a:lnSpc>
                <a:spcBef>
                  <a:spcPts val="400"/>
                </a:spcBef>
                <a:buClr>
                  <a:srgbClr val="ff0000"/>
                </a:buClr>
                <a:buFont typeface="Wingdings" charset="2"/>
                <a:buChar char="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29" name="" descr=""/>
            <p:cNvPicPr/>
            <p:nvPr/>
          </p:nvPicPr>
          <p:blipFill>
            <a:blip r:embed="rId2"/>
            <a:srcRect l="0" t="20276" r="0" b="0"/>
            <a:stretch/>
          </p:blipFill>
          <p:spPr>
            <a:xfrm>
              <a:off x="5067360" y="1469880"/>
              <a:ext cx="4699080" cy="267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"/>
            <p:cNvSpPr/>
            <p:nvPr/>
          </p:nvSpPr>
          <p:spPr>
            <a:xfrm>
              <a:off x="5575320" y="1913040"/>
              <a:ext cx="828720" cy="1714320"/>
            </a:xfrm>
            <a:prstGeom prst="ellipse">
              <a:avLst/>
            </a:prstGeom>
            <a:noFill/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038200" y="4084560"/>
              <a:ext cx="1183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SR Acce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7220160" y="4414680"/>
              <a:ext cx="2434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CI-X Sequence 4096 byt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041800" y="4394160"/>
              <a:ext cx="2475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CI-X bursts 256 byt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>
              <a:off x="6945120" y="3129120"/>
              <a:ext cx="361800" cy="13474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5839920" y="3629160"/>
              <a:ext cx="127080" cy="52848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531120" y="3591000"/>
              <a:ext cx="1823760" cy="1440"/>
            </a:xfrm>
            <a:prstGeom prst="line">
              <a:avLst/>
            </a:prstGeom>
            <a:ln w="381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flipH="1">
              <a:off x="7253280" y="3592440"/>
              <a:ext cx="192240" cy="908280"/>
            </a:xfrm>
            <a:prstGeom prst="line">
              <a:avLst/>
            </a:prstGeom>
            <a:ln w="2844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8482320" y="4129200"/>
              <a:ext cx="105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Gap 700n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 flipH="1">
              <a:off x="8497440" y="3451320"/>
              <a:ext cx="34920" cy="836640"/>
            </a:xfrm>
            <a:prstGeom prst="line">
              <a:avLst/>
            </a:prstGeom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2970360" y="4151160"/>
            <a:ext cx="197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CI-X Seque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flipV="1">
            <a:off x="2567160" y="3084480"/>
            <a:ext cx="341280" cy="6480"/>
          </a:xfrm>
          <a:prstGeom prst="line">
            <a:avLst/>
          </a:prstGeom>
          <a:ln w="381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738520" y="3103560"/>
            <a:ext cx="288720" cy="1166760"/>
          </a:xfrm>
          <a:prstGeom prst="line">
            <a:avLst/>
          </a:prstGeom>
          <a:ln w="284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4556F-B6DB-43A8-A250-8BC89087AAC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200160" y="939600"/>
            <a:ext cx="7907040" cy="61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ff"/>
                </a:solidFill>
                <a:latin typeface="Arial"/>
              </a:rPr>
              <a:t>16080 byte packets every 200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  <a:ea typeface="Arial"/>
              </a:rPr>
              <a:t>µs      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Intel PRO/10GbE LR Server Adapter MTU 161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ff"/>
                </a:solidFill>
                <a:latin typeface="Arial"/>
              </a:rPr>
              <a:t>setpci -s 02:1.0 e6.b=2e     (22 26 2a )        </a:t>
            </a: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mmrbc 4096 bytes</a:t>
            </a:r>
            <a:r>
              <a:rPr b="1" lang="en-GB" sz="1400" spc="-1" strike="noStrike">
                <a:solidFill>
                  <a:srgbClr val="0000ff"/>
                </a:solidFill>
                <a:latin typeface="Arial"/>
              </a:rPr>
              <a:t>   (512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024  2048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92240" y="4861080"/>
            <a:ext cx="5083200" cy="16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CI-X Signals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transmit - memory to NIC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rupt and processing: 48.4 µs after start</a:t>
            </a: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transfer takes ~22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µ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Data transfer rate over PCI-X: 5.86 Gbit/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89520" y="4881600"/>
            <a:ext cx="5016600" cy="12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393120" indent="-39312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CI-X Signals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receive – NIC to memor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93120" indent="-39312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terrupt every 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93120" indent="-39312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transfer takes ~18.4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µ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93120" indent="-39312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Data transfer rate over PCI-X : 7.014 Gbit/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93120" indent="-39312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Note: receive is faster cf the 1 GE N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93120" indent="-39312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295280" y="128520"/>
            <a:ext cx="763272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66"/>
                </a:solidFill>
                <a:latin typeface="Arial"/>
              </a:rPr>
              <a:t>10 GigE on Itanium IA64: PCI-X bus Activ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102240" y="1474920"/>
            <a:ext cx="4747680" cy="3267720"/>
            <a:chOff x="102240" y="1474920"/>
            <a:chExt cx="4747680" cy="3267720"/>
          </a:xfrm>
        </p:grpSpPr>
        <p:pic>
          <p:nvPicPr>
            <p:cNvPr id="248" name="" descr=""/>
            <p:cNvPicPr/>
            <p:nvPr/>
          </p:nvPicPr>
          <p:blipFill>
            <a:blip r:embed="rId1"/>
            <a:stretch/>
          </p:blipFill>
          <p:spPr>
            <a:xfrm>
              <a:off x="477720" y="1474920"/>
              <a:ext cx="4372200" cy="26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" name=""/>
            <p:cNvSpPr/>
            <p:nvPr/>
          </p:nvSpPr>
          <p:spPr>
            <a:xfrm>
              <a:off x="1243080" y="3603600"/>
              <a:ext cx="1666800" cy="1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07640" y="4154400"/>
              <a:ext cx="1183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SR Acce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H="1">
              <a:off x="1095480" y="3670200"/>
              <a:ext cx="155520" cy="57168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173240" y="2139840"/>
              <a:ext cx="142920" cy="1543320"/>
            </a:xfrm>
            <a:prstGeom prst="ellipse">
              <a:avLst/>
            </a:prstGeom>
            <a:noFill/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02240" y="4427640"/>
              <a:ext cx="2068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ransfer of 16114 byt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 flipH="1">
              <a:off x="1965240" y="3605040"/>
              <a:ext cx="192240" cy="908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197080" y="4435560"/>
              <a:ext cx="2360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CI-X bursts 256 byt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 flipH="1">
              <a:off x="2300040" y="3398760"/>
              <a:ext cx="290520" cy="110484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084640" y="1471680"/>
            <a:ext cx="4391280" cy="267012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8582040" y="4165560"/>
            <a:ext cx="1084320" cy="260280"/>
          </a:xfrm>
          <a:solidFill>
            <a:srgbClr val="ffffff"/>
          </a:solidFill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ru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031080" y="3603600"/>
            <a:ext cx="1406520" cy="79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8481600" y="3933720"/>
            <a:ext cx="1183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R A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854840" y="3701880"/>
            <a:ext cx="676440" cy="36684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7790040" y="2184480"/>
            <a:ext cx="142560" cy="1542960"/>
          </a:xfrm>
          <a:prstGeom prst="ellipse">
            <a:avLst/>
          </a:prstGeom>
          <a:noFill/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890240" y="4416480"/>
            <a:ext cx="20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nsfer of 16114 by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6754680" y="3584520"/>
            <a:ext cx="185760" cy="8985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842160" y="4440240"/>
            <a:ext cx="236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CI-X bursts 512 by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flipH="1">
            <a:off x="6959160" y="3138480"/>
            <a:ext cx="273240" cy="136224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955960" y="4151160"/>
            <a:ext cx="1974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CI-X Seque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 flipV="1">
            <a:off x="2552760" y="3084480"/>
            <a:ext cx="341280" cy="6480"/>
          </a:xfrm>
          <a:prstGeom prst="line">
            <a:avLst/>
          </a:prstGeom>
          <a:ln w="381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24120" y="3103560"/>
            <a:ext cx="289080" cy="1166760"/>
          </a:xfrm>
          <a:prstGeom prst="line">
            <a:avLst/>
          </a:prstGeom>
          <a:ln w="284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3599B-A739-4ADC-8861-F417EA1AF3E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294920" y="228600"/>
            <a:ext cx="74898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cc66"/>
                </a:solidFill>
                <a:latin typeface="Arial"/>
              </a:rPr>
              <a:t>10 GigE on Xeon IA32: UDP Latency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29680" y="1039680"/>
            <a:ext cx="3948120" cy="536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otherboard: Supermicro P4DP8-G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hipset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l E7500 (Plumas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PU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ual Xeon 2.2GHz with 512k L2 cach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m bus 400 MHz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CI-X 133 MH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edHat Kernel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4.21 SMP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l(R) PRO/10GbE Network Driver v1.0.45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tel PRO/10GbE LR Server Adapte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IC driver wi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80000"/>
              </a:lnSpc>
              <a:spcBef>
                <a:spcPts val="349"/>
              </a:spcBef>
              <a:buClr>
                <a:srgbClr val="0000ff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xIntDelay=0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80000"/>
              </a:lnSpc>
              <a:spcBef>
                <a:spcPts val="349"/>
              </a:spcBef>
              <a:buClr>
                <a:srgbClr val="0000ff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sumRX=1 XsumTX=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80000"/>
              </a:lnSpc>
              <a:spcBef>
                <a:spcPts val="349"/>
              </a:spcBef>
              <a:buClr>
                <a:srgbClr val="0000ff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xDescriptors=2048 TxDescriptors=204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TU 1500 by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Latency 144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&amp; reasonably beha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Latency Slope  </a:t>
            </a: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0.0032 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µ</a:t>
            </a: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s/by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B2B Expect:     </a:t>
            </a: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0.00268 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µ</a:t>
            </a: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s/by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4267080" y="3562200"/>
            <a:ext cx="5381640" cy="244008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/>
          <p:cNvPicPr/>
          <p:nvPr/>
        </p:nvPicPr>
        <p:blipFill>
          <a:blip r:embed="rId2"/>
          <a:stretch/>
        </p:blipFill>
        <p:spPr>
          <a:xfrm>
            <a:off x="4254480" y="1044720"/>
            <a:ext cx="5381640" cy="2428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691BD-CCB7-4732-B915-F2F5CB7BE4A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495080" y="228600"/>
            <a:ext cx="74898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cc66"/>
                </a:solidFill>
                <a:latin typeface="Arial"/>
              </a:rPr>
              <a:t>10 GigE on Xeon IA32: Latency Histograms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9680" y="1039680"/>
            <a:ext cx="7861320" cy="536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uble peak structure with the peaks separated by 3-4 µ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aks are ~1-2 µs wi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liar to that observed with 1 Gbit Ethernet NICs on IA32 architectur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4940280" y="2438280"/>
            <a:ext cx="4224240" cy="166716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2"/>
          <a:stretch/>
        </p:blipFill>
        <p:spPr>
          <a:xfrm>
            <a:off x="571680" y="2446200"/>
            <a:ext cx="4217760" cy="165744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3"/>
          <a:stretch/>
        </p:blipFill>
        <p:spPr>
          <a:xfrm>
            <a:off x="550800" y="4373640"/>
            <a:ext cx="4235400" cy="167616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"/>
          <p:cNvPicPr/>
          <p:nvPr/>
        </p:nvPicPr>
        <p:blipFill>
          <a:blip r:embed="rId4"/>
          <a:stretch/>
        </p:blipFill>
        <p:spPr>
          <a:xfrm>
            <a:off x="4968720" y="4338720"/>
            <a:ext cx="4243680" cy="1685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EA9ED-F56F-40E4-BF8D-B32BCCE43C7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495080" y="228600"/>
            <a:ext cx="74898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cc66"/>
                </a:solidFill>
                <a:latin typeface="Arial"/>
              </a:rPr>
              <a:t>10 GigE on Xeon IA32: Throughput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3040" y="992160"/>
            <a:ext cx="3543480" cy="51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TU 16114 by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ax throughput </a:t>
            </a: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2.75 Gbit/s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mrbc 5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ff"/>
                </a:solidFill>
                <a:latin typeface="Arial"/>
              </a:rPr>
              <a:t>Max throughput 3.97 Gbit/s </a:t>
            </a:r>
            <a:br>
              <a:rPr sz="1400"/>
            </a:br>
            <a:r>
              <a:rPr b="0" lang="en-GB" sz="1400" spc="-1" strike="noStrike">
                <a:solidFill>
                  <a:srgbClr val="0000ff"/>
                </a:solidFill>
                <a:latin typeface="Arial"/>
              </a:rPr>
              <a:t>mmrbc 4096 by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nt on every pack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No packet loss in 10M pack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Sending host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closely spaced packets, the other CPU is ~60-70 % in kernel mod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ff"/>
                </a:solidFill>
                <a:latin typeface="Arial"/>
              </a:rPr>
              <a:t>Receiving host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mall packets 80 % in kernel m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gt;9000 bytes ~50% in kernel m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3660840" y="828720"/>
            <a:ext cx="5722920" cy="215892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3660840" y="4541760"/>
            <a:ext cx="5722920" cy="180036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3"/>
          <a:stretch/>
        </p:blipFill>
        <p:spPr>
          <a:xfrm>
            <a:off x="3660840" y="2860560"/>
            <a:ext cx="5722920" cy="1800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A298D-8BBC-4353-99DE-C081D4FBFFA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" descr=""/>
          <p:cNvPicPr/>
          <p:nvPr/>
        </p:nvPicPr>
        <p:blipFill>
          <a:blip r:embed="rId1"/>
          <a:stretch/>
        </p:blipFill>
        <p:spPr>
          <a:xfrm>
            <a:off x="247680" y="1312920"/>
            <a:ext cx="4741920" cy="2674800"/>
          </a:xfrm>
          <a:prstGeom prst="rect">
            <a:avLst/>
          </a:prstGeom>
          <a:ln w="0">
            <a:noFill/>
          </a:ln>
        </p:spPr>
      </p:pic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281240" y="-360"/>
            <a:ext cx="76183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cc66"/>
                </a:solidFill>
                <a:latin typeface="Arial"/>
              </a:rPr>
              <a:t>10 GigE on Xeon IA32: PCI-X bus Activity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00160" y="982440"/>
            <a:ext cx="7950240" cy="61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ff"/>
                </a:solidFill>
                <a:latin typeface="Arial"/>
              </a:rPr>
              <a:t>16080 byte packets every 200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Arial"/>
              </a:rPr>
              <a:t>µs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Intel PRO/10GbE LR 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mmrbc 512 by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92240" y="4861080"/>
            <a:ext cx="5083200" cy="16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CI-X Signals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transmit - memory to NIC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rupt and processing: 70 µs after sta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transfer takes ~44.7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µ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transfer rate over PCI-X: 2.88Gbit/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889520" y="4853160"/>
            <a:ext cx="475308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CI-X Signals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receive – NIC to memor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terrupt every packe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transfer takes ~18.29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µ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transfer rate over PCI-X : 7.014Gbit/s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me as Itani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2"/>
          <a:stretch/>
        </p:blipFill>
        <p:spPr>
          <a:xfrm>
            <a:off x="5078520" y="1262160"/>
            <a:ext cx="4390920" cy="291456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/>
          <p:nvPr/>
        </p:nvSpPr>
        <p:spPr>
          <a:xfrm>
            <a:off x="4370400" y="4124160"/>
            <a:ext cx="1084320" cy="260640"/>
          </a:xfrm>
          <a:solidFill>
            <a:srgbClr val="ffffff"/>
          </a:solidFill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ru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249200" y="3427560"/>
            <a:ext cx="1779840" cy="1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07640" y="4011480"/>
            <a:ext cx="118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R A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flipH="1">
            <a:off x="1171080" y="3214800"/>
            <a:ext cx="71640" cy="82872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171440" y="1971720"/>
            <a:ext cx="142920" cy="1299960"/>
          </a:xfrm>
          <a:prstGeom prst="ellipse">
            <a:avLst/>
          </a:prstGeom>
          <a:noFill/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02240" y="4356000"/>
            <a:ext cx="20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nsfer of 16114 by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 flipH="1">
            <a:off x="1842840" y="3429000"/>
            <a:ext cx="314280" cy="1000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054160" y="4280040"/>
            <a:ext cx="2131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CI-X burst 256 by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flipH="1">
            <a:off x="2171520" y="3029040"/>
            <a:ext cx="371160" cy="129996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8529480" y="4568760"/>
            <a:ext cx="1084320" cy="260280"/>
          </a:xfrm>
          <a:solidFill>
            <a:srgbClr val="ffffff"/>
          </a:solidFill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ru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008760" y="3757680"/>
            <a:ext cx="1407960" cy="1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flipH="1">
            <a:off x="6873480" y="3773520"/>
            <a:ext cx="343080" cy="900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947480" y="4572000"/>
            <a:ext cx="20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nsfer of 16114 by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324640" y="4299120"/>
            <a:ext cx="118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R A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773840" y="3430440"/>
            <a:ext cx="600120" cy="98604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7445520" y="1959120"/>
            <a:ext cx="585720" cy="1500120"/>
          </a:xfrm>
          <a:prstGeom prst="ellipse">
            <a:avLst/>
          </a:prstGeom>
          <a:noFill/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38A5C-37F7-407D-BFEE-11612C5301A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Arial"/>
              </a:rPr>
              <a:t>Introd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0066"/>
                </a:solidFill>
                <a:latin typeface="Arial"/>
              </a:rPr>
              <a:t>10 GigE on Itanium IA6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cc66"/>
                </a:solidFill>
                <a:latin typeface="Arial"/>
              </a:rPr>
              <a:t>10 GigE on Xeon IA3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63300"/>
                </a:solidFill>
                <a:latin typeface="Arial"/>
              </a:rPr>
              <a:t>10 GigE on Dell Xeon IA3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9900"/>
                </a:solidFill>
                <a:latin typeface="Arial"/>
              </a:rPr>
              <a:t>Tuning the PCI-X b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Arial"/>
              </a:rPr>
              <a:t>SC2003 Phoeni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B310A-A8F4-4609-8C2A-7B8D14C4F85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495080" y="228600"/>
            <a:ext cx="74898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3300"/>
                </a:solidFill>
                <a:latin typeface="Arial"/>
              </a:rPr>
              <a:t>10 GigE on Dell Xeon: Throughput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03040" y="992160"/>
            <a:ext cx="3543480" cy="51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TU 16114 by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ax throughput </a:t>
            </a: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5.4 Gbit/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nt on every pack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ome packet loss pkts &lt; 4000 by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Sending host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closely spaced packets, one CPU is ~70% in kernel mod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PU usage swap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ff"/>
                </a:solidFill>
                <a:latin typeface="Arial"/>
              </a:rPr>
              <a:t>Receiving host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 CPU is idle but CPU usage swa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closely spaced packets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~80 %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kernel mod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1"/>
          <a:stretch/>
        </p:blipFill>
        <p:spPr>
          <a:xfrm>
            <a:off x="3784680" y="838080"/>
            <a:ext cx="5646600" cy="217980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2"/>
          <a:stretch/>
        </p:blipFill>
        <p:spPr>
          <a:xfrm>
            <a:off x="3784680" y="2889360"/>
            <a:ext cx="5646600" cy="1820880"/>
          </a:xfrm>
          <a:prstGeom prst="rect">
            <a:avLst/>
          </a:prstGeom>
          <a:ln w="0">
            <a:noFill/>
          </a:ln>
        </p:spPr>
      </p:pic>
      <p:pic>
        <p:nvPicPr>
          <p:cNvPr id="311" name="" descr=""/>
          <p:cNvPicPr/>
          <p:nvPr/>
        </p:nvPicPr>
        <p:blipFill>
          <a:blip r:embed="rId3"/>
          <a:stretch/>
        </p:blipFill>
        <p:spPr>
          <a:xfrm>
            <a:off x="3784680" y="4546440"/>
            <a:ext cx="5646600" cy="1820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8EA4B-5196-49AF-BC18-E81365EBE2F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294920" y="228600"/>
            <a:ext cx="74898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3300"/>
                </a:solidFill>
                <a:latin typeface="Arial"/>
              </a:rPr>
              <a:t>10 GigE on Dell Xeon : UDP Latency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229680" y="1039680"/>
            <a:ext cx="3948120" cy="536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otherboard: Dell Poweredge 26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hipset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l E7500 (Plumas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PU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ual Xeon 3.06 GHz with 512k L2 cach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m bus 533 MHz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CI-X 133 MH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edHat Kernel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4.20 altAIM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l(R) PRO/10GbE Network Driver v1.0.45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tel PRO/10GbE LR Server Adapte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IC driver wi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80000"/>
              </a:lnSpc>
              <a:spcBef>
                <a:spcPts val="349"/>
              </a:spcBef>
              <a:buClr>
                <a:srgbClr val="0000ff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xIntDelay=0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80000"/>
              </a:lnSpc>
              <a:spcBef>
                <a:spcPts val="349"/>
              </a:spcBef>
              <a:buClr>
                <a:srgbClr val="0000ff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sumRX=1 XsumTX=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80000"/>
              </a:lnSpc>
              <a:spcBef>
                <a:spcPts val="349"/>
              </a:spcBef>
              <a:buClr>
                <a:srgbClr val="0000ff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xDescriptors=2048 TxDescriptors=204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TU 16114 by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Latency 36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with some ste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Latency Slope  </a:t>
            </a: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0.0017 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µ</a:t>
            </a: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s/by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B2B Expect:     </a:t>
            </a: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0.00268 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µ</a:t>
            </a: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s/by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4260960" y="992160"/>
            <a:ext cx="5379840" cy="2530440"/>
          </a:xfrm>
          <a:prstGeom prst="rect">
            <a:avLst/>
          </a:prstGeom>
          <a:ln w="0">
            <a:noFill/>
          </a:ln>
        </p:spPr>
      </p:pic>
      <p:pic>
        <p:nvPicPr>
          <p:cNvPr id="315" name="" descr=""/>
          <p:cNvPicPr/>
          <p:nvPr/>
        </p:nvPicPr>
        <p:blipFill>
          <a:blip r:embed="rId2"/>
          <a:stretch/>
        </p:blipFill>
        <p:spPr>
          <a:xfrm>
            <a:off x="4255920" y="3549600"/>
            <a:ext cx="5388120" cy="253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812E3-B33C-41D0-B45E-4E2C678897A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742680" y="255600"/>
            <a:ext cx="842004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10 GigEthernet: Throughpu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47760" y="958320"/>
            <a:ext cx="5145120" cy="530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1500 byte MTU gives ~ 2 Gbit/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Used 16144 byte MTU max user length 160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DataTAG Supermicro PC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Dual 2.2 GHz Xeon CPU FSB 400 MH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cc"/>
                </a:solidFill>
                <a:latin typeface="Arial"/>
              </a:rPr>
              <a:t>PCI-X mmrbc 512 by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wire rate throughput of 2.9 Gbit/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SLAC Dell PCs giving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Dual 3.0 GHz Xeon CPU FSB 533 MHz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cc"/>
                </a:solidFill>
                <a:latin typeface="Arial"/>
              </a:rPr>
              <a:t>PCI-X mmrbc 4096 bytes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wire rate of 5.4 Gbit/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CERN OpenLab HP Itanium PC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Dual 1.0 GHz 64 bit Itanium CPU FSB 400 MHz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cc"/>
                </a:solidFill>
                <a:latin typeface="Arial"/>
              </a:rPr>
              <a:t>PCI-X mmrbc 4096 by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wire rate of 5.7 Gbit/s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5499000" y="1162080"/>
            <a:ext cx="3638520" cy="1695600"/>
          </a:xfrm>
          <a:prstGeom prst="rect">
            <a:avLst/>
          </a:prstGeom>
          <a:ln w="0">
            <a:noFill/>
          </a:ln>
        </p:spPr>
      </p:pic>
      <p:pic>
        <p:nvPicPr>
          <p:cNvPr id="319" name="" descr=""/>
          <p:cNvPicPr/>
          <p:nvPr/>
        </p:nvPicPr>
        <p:blipFill>
          <a:blip r:embed="rId2"/>
          <a:stretch/>
        </p:blipFill>
        <p:spPr>
          <a:xfrm>
            <a:off x="5516640" y="4608360"/>
            <a:ext cx="3624120" cy="1690920"/>
          </a:xfrm>
          <a:prstGeom prst="rect">
            <a:avLst/>
          </a:prstGeom>
          <a:ln w="0">
            <a:noFill/>
          </a:ln>
        </p:spPr>
      </p:pic>
      <p:pic>
        <p:nvPicPr>
          <p:cNvPr id="320" name="" descr=""/>
          <p:cNvPicPr/>
          <p:nvPr/>
        </p:nvPicPr>
        <p:blipFill>
          <a:blip r:embed="rId3"/>
          <a:stretch/>
        </p:blipFill>
        <p:spPr>
          <a:xfrm>
            <a:off x="5465880" y="2847960"/>
            <a:ext cx="3717720" cy="1770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CA8EF-4B47-4DF3-9713-C91BAE833AF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/>
          <p:nvPr/>
        </p:nvSpPr>
        <p:spPr>
          <a:xfrm>
            <a:off x="1065240" y="217440"/>
            <a:ext cx="7489800" cy="5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9900"/>
                </a:solidFill>
                <a:latin typeface="Arial"/>
              </a:rPr>
              <a:t>Tuning PCI-X: Variation of mmrbc IA32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2" name=""/>
          <p:cNvGrpSpPr/>
          <p:nvPr/>
        </p:nvGrpSpPr>
        <p:grpSpPr>
          <a:xfrm>
            <a:off x="4145040" y="679320"/>
            <a:ext cx="5599080" cy="5681880"/>
            <a:chOff x="4145040" y="679320"/>
            <a:chExt cx="5599080" cy="5681880"/>
          </a:xfrm>
        </p:grpSpPr>
        <p:pic>
          <p:nvPicPr>
            <p:cNvPr id="323" name="" descr=""/>
            <p:cNvPicPr/>
            <p:nvPr/>
          </p:nvPicPr>
          <p:blipFill>
            <a:blip r:embed="rId1"/>
            <a:stretch/>
          </p:blipFill>
          <p:spPr>
            <a:xfrm>
              <a:off x="4145040" y="4921200"/>
              <a:ext cx="4319640" cy="144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4" name="" descr=""/>
            <p:cNvPicPr/>
            <p:nvPr/>
          </p:nvPicPr>
          <p:blipFill>
            <a:blip r:embed="rId2"/>
            <a:stretch/>
          </p:blipFill>
          <p:spPr>
            <a:xfrm>
              <a:off x="4145040" y="2127240"/>
              <a:ext cx="4319640" cy="144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5" name="" descr=""/>
            <p:cNvPicPr/>
            <p:nvPr/>
          </p:nvPicPr>
          <p:blipFill>
            <a:blip r:embed="rId3"/>
            <a:stretch/>
          </p:blipFill>
          <p:spPr>
            <a:xfrm>
              <a:off x="4145040" y="3502080"/>
              <a:ext cx="4319640" cy="143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6" name="" descr=""/>
            <p:cNvPicPr/>
            <p:nvPr/>
          </p:nvPicPr>
          <p:blipFill>
            <a:blip r:embed="rId4"/>
            <a:stretch/>
          </p:blipFill>
          <p:spPr>
            <a:xfrm>
              <a:off x="4146840" y="679320"/>
              <a:ext cx="4319280" cy="144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7" name=""/>
            <p:cNvSpPr/>
            <p:nvPr/>
          </p:nvSpPr>
          <p:spPr>
            <a:xfrm>
              <a:off x="8429760" y="2025720"/>
              <a:ext cx="128412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mmrb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1024 byt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8415360" y="3413160"/>
              <a:ext cx="132876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mmrb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2048 byt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8415360" y="5041800"/>
              <a:ext cx="132876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mmrb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4096 byt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064120" y="4533840"/>
              <a:ext cx="9082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8420400" y="755640"/>
              <a:ext cx="121572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mmrb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512 byt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 flipV="1">
              <a:off x="5799240" y="4219560"/>
              <a:ext cx="69840" cy="64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02200" y="3703680"/>
              <a:ext cx="174600" cy="579240"/>
            </a:xfrm>
            <a:prstGeom prst="ellipse">
              <a:avLst/>
            </a:prstGeom>
            <a:noFill/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845400" y="3610080"/>
              <a:ext cx="405000" cy="1150920"/>
            </a:xfrm>
            <a:prstGeom prst="ellipse">
              <a:avLst/>
            </a:prstGeom>
            <a:noFill/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7304040" y="3732120"/>
              <a:ext cx="118368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SR Acce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7307640" y="4005360"/>
              <a:ext cx="150948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CI-X Sequen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315920" y="4292640"/>
              <a:ext cx="127188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ata Transf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300080" y="4572000"/>
              <a:ext cx="206604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nterrupt &amp; CSR Updat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145120" y="3809880"/>
              <a:ext cx="2225880" cy="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856480" y="4132080"/>
              <a:ext cx="1517760" cy="9180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834160" y="4437000"/>
              <a:ext cx="1554120" cy="9216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2" name="PlaceHolder 1"/>
          <p:cNvSpPr>
            <a:spLocks noGrp="1"/>
          </p:cNvSpPr>
          <p:nvPr>
            <p:ph/>
          </p:nvPr>
        </p:nvSpPr>
        <p:spPr>
          <a:xfrm>
            <a:off x="200160" y="925560"/>
            <a:ext cx="3846240" cy="276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400"/>
              </a:spcBef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6080 byte packets every 200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µ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spcBef>
                <a:spcPts val="400"/>
              </a:spcBef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l PRO/10GbE LR Adapte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spcBef>
                <a:spcPts val="400"/>
              </a:spcBef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CI-X bus occupancy vs mmrb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spcBef>
                <a:spcPts val="400"/>
              </a:spcBef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lo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29440" indent="-376920">
              <a:spcBef>
                <a:spcPts val="349"/>
              </a:spcBef>
              <a:buClr>
                <a:srgbClr val="0000ff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Measured tim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29440" indent="-376920">
              <a:spcBef>
                <a:spcPts val="349"/>
              </a:spcBef>
              <a:buClr>
                <a:srgbClr val="0000ff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Times based on PCI-X times from the logic analy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29440" indent="-376920">
              <a:spcBef>
                <a:spcPts val="349"/>
              </a:spcBef>
              <a:buClr>
                <a:srgbClr val="0000ff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Expected throughp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" descr=""/>
          <p:cNvPicPr/>
          <p:nvPr/>
        </p:nvPicPr>
        <p:blipFill>
          <a:blip r:embed="rId5"/>
          <a:stretch/>
        </p:blipFill>
        <p:spPr>
          <a:xfrm>
            <a:off x="250920" y="3719520"/>
            <a:ext cx="3711600" cy="2590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9DF37-0F30-4356-998B-1478DEEC24D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150560" y="288720"/>
            <a:ext cx="7489800" cy="5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9900"/>
                </a:solidFill>
                <a:latin typeface="Arial"/>
              </a:rPr>
              <a:t>Tuning PCI-X: Throughput vs mmrbc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2193840" y="847800"/>
            <a:ext cx="3711600" cy="1800000"/>
          </a:xfrm>
          <a:prstGeom prst="rect">
            <a:avLst/>
          </a:prstGeom>
          <a:ln w="0">
            <a:noFill/>
          </a:ln>
        </p:spPr>
      </p:pic>
      <p:pic>
        <p:nvPicPr>
          <p:cNvPr id="346" name="" descr=""/>
          <p:cNvPicPr/>
          <p:nvPr/>
        </p:nvPicPr>
        <p:blipFill>
          <a:blip r:embed="rId2"/>
          <a:stretch/>
        </p:blipFill>
        <p:spPr>
          <a:xfrm>
            <a:off x="2176560" y="4529160"/>
            <a:ext cx="3717720" cy="1800360"/>
          </a:xfrm>
          <a:prstGeom prst="rect">
            <a:avLst/>
          </a:prstGeom>
          <a:ln w="0">
            <a:noFill/>
          </a:ln>
        </p:spPr>
      </p:pic>
      <p:pic>
        <p:nvPicPr>
          <p:cNvPr id="347" name="" descr=""/>
          <p:cNvPicPr/>
          <p:nvPr/>
        </p:nvPicPr>
        <p:blipFill>
          <a:blip r:embed="rId3"/>
          <a:stretch/>
        </p:blipFill>
        <p:spPr>
          <a:xfrm>
            <a:off x="5889600" y="4497480"/>
            <a:ext cx="3665520" cy="180000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4"/>
          <a:stretch/>
        </p:blipFill>
        <p:spPr>
          <a:xfrm>
            <a:off x="2190600" y="2671920"/>
            <a:ext cx="3718080" cy="1800000"/>
          </a:xfrm>
          <a:prstGeom prst="rect">
            <a:avLst/>
          </a:prstGeom>
          <a:ln w="0">
            <a:noFill/>
          </a:ln>
        </p:spPr>
      </p:pic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213840" y="938160"/>
            <a:ext cx="2062440" cy="477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DataTag IA3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2.2 GHz Xe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400 MHz FS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2.7 – 4.0 Gbit.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SLAC D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3.0 GHz Xe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533 MHz FS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3.5 - 5.2 Gbit/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OpenLab IA6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1.0 GHz Itani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622 MHz FS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3.2 - 5.7 Gbit/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CPU load is 1 CPU not a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5"/>
          <a:stretch/>
        </p:blipFill>
        <p:spPr>
          <a:xfrm>
            <a:off x="5889600" y="852480"/>
            <a:ext cx="3665520" cy="1800360"/>
          </a:xfrm>
          <a:prstGeom prst="rect">
            <a:avLst/>
          </a:prstGeom>
          <a:ln w="0">
            <a:noFill/>
          </a:ln>
        </p:spPr>
      </p:pic>
      <p:pic>
        <p:nvPicPr>
          <p:cNvPr id="351" name="" descr=""/>
          <p:cNvPicPr/>
          <p:nvPr/>
        </p:nvPicPr>
        <p:blipFill>
          <a:blip r:embed="rId6"/>
          <a:stretch/>
        </p:blipFill>
        <p:spPr>
          <a:xfrm>
            <a:off x="5899320" y="2670120"/>
            <a:ext cx="3665520" cy="18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30FE0-1A58-4169-8A92-7C596D73EE2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779040" y="240840"/>
            <a:ext cx="8420040" cy="6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10 GigEthernet at SC2003 BW Challeng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60280" y="807840"/>
            <a:ext cx="7253280" cy="56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Three Server systems with 10 GigEthernet NI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Used the DataTAG altAIMD stack 9000 byte MT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Send mem-mem iperf TCP streams From SLAC/FNAL booth in Phoenix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80000"/>
              </a:lnSpc>
              <a:spcBef>
                <a:spcPts val="349"/>
              </a:spcBef>
              <a:buClr>
                <a:srgbClr val="0000ff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Pal Alto PAI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80000"/>
              </a:lnSpc>
              <a:spcBef>
                <a:spcPts val="349"/>
              </a:spcBef>
              <a:buClr>
                <a:srgbClr val="0000ff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rtt  17 ms ,  window 30 M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80000"/>
              </a:lnSpc>
              <a:spcBef>
                <a:spcPts val="349"/>
              </a:spcBef>
              <a:buClr>
                <a:srgbClr val="0000ff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Shared with Caltech boo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80000"/>
              </a:lnSpc>
              <a:spcBef>
                <a:spcPts val="349"/>
              </a:spcBef>
              <a:buClr>
                <a:srgbClr val="0000ff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ff"/>
                </a:solidFill>
                <a:latin typeface="Arial"/>
              </a:rPr>
              <a:t>4.37 Gbit hstcp I=5%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80000"/>
              </a:lnSpc>
              <a:spcBef>
                <a:spcPts val="349"/>
              </a:spcBef>
              <a:buClr>
                <a:srgbClr val="0000ff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ff"/>
                </a:solidFill>
                <a:latin typeface="Arial"/>
              </a:rPr>
              <a:t>Then 2.87 Gbit I=16%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80000"/>
              </a:lnSpc>
              <a:spcBef>
                <a:spcPts val="349"/>
              </a:spcBef>
              <a:buClr>
                <a:srgbClr val="0000ff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ff"/>
                </a:solidFill>
                <a:latin typeface="Arial"/>
              </a:rPr>
              <a:t>Fall corresponds to 10 Gbit on lin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80000"/>
              </a:lnSpc>
              <a:spcBef>
                <a:spcPts val="349"/>
              </a:spcBef>
              <a:buClr>
                <a:srgbClr val="0000ff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3.3Gbit Scalable I=8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80000"/>
              </a:lnSpc>
              <a:spcBef>
                <a:spcPts val="349"/>
              </a:spcBef>
              <a:buClr>
                <a:srgbClr val="0000ff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Tested 2 flows sum 1.9Gbit I=39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80000"/>
              </a:lnSpc>
              <a:spcBef>
                <a:spcPts val="349"/>
              </a:spcBef>
              <a:buClr>
                <a:srgbClr val="0000ff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ff"/>
                </a:solidFill>
                <a:latin typeface="Arial"/>
              </a:rPr>
              <a:t>Chicago Starli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80000"/>
              </a:lnSpc>
              <a:spcBef>
                <a:spcPts val="349"/>
              </a:spcBef>
              <a:buClr>
                <a:srgbClr val="0000ff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rtt 65 ms ,  window 60 M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80000"/>
              </a:lnSpc>
              <a:spcBef>
                <a:spcPts val="349"/>
              </a:spcBef>
              <a:buClr>
                <a:srgbClr val="0000ff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Phoenix CPU 2.2 GH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80000"/>
              </a:lnSpc>
              <a:spcBef>
                <a:spcPts val="349"/>
              </a:spcBef>
              <a:buClr>
                <a:srgbClr val="0000ff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ff"/>
                </a:solidFill>
                <a:latin typeface="Arial"/>
              </a:rPr>
              <a:t>3.1 Gbit hstcp I=1.6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80000"/>
              </a:lnSpc>
              <a:spcBef>
                <a:spcPts val="349"/>
              </a:spcBef>
              <a:buClr>
                <a:srgbClr val="0000ff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ccff"/>
                </a:solidFill>
                <a:latin typeface="Arial"/>
              </a:rPr>
              <a:t>Amsterdam SA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80000"/>
              </a:lnSpc>
              <a:spcBef>
                <a:spcPts val="349"/>
              </a:spcBef>
              <a:buClr>
                <a:srgbClr val="0000ff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rtt 175 ms ,  window 200 M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80000"/>
              </a:lnSpc>
              <a:spcBef>
                <a:spcPts val="349"/>
              </a:spcBef>
              <a:buClr>
                <a:srgbClr val="0000ff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Phoenix CPU 2.2 GH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80000"/>
              </a:lnSpc>
              <a:spcBef>
                <a:spcPts val="349"/>
              </a:spcBef>
              <a:buClr>
                <a:srgbClr val="0000ff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ccff"/>
                </a:solidFill>
                <a:latin typeface="Arial"/>
              </a:rPr>
              <a:t>4.35 Gbit hstcp I=6.9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80000"/>
              </a:lnSpc>
              <a:spcBef>
                <a:spcPts val="349"/>
              </a:spcBef>
              <a:buClr>
                <a:srgbClr val="0000ff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Very S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80000"/>
              </a:lnSpc>
              <a:spcBef>
                <a:spcPts val="349"/>
              </a:spcBef>
              <a:buClr>
                <a:srgbClr val="0000ff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oth used Abilene to Chica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1"/>
          <a:stretch/>
        </p:blipFill>
        <p:spPr>
          <a:xfrm>
            <a:off x="4265640" y="1587600"/>
            <a:ext cx="5381640" cy="2117520"/>
          </a:xfrm>
          <a:prstGeom prst="rect">
            <a:avLst/>
          </a:prstGeom>
          <a:ln w="0">
            <a:noFill/>
          </a:ln>
        </p:spPr>
      </p:pic>
      <p:pic>
        <p:nvPicPr>
          <p:cNvPr id="355" name="" descr=""/>
          <p:cNvPicPr/>
          <p:nvPr/>
        </p:nvPicPr>
        <p:blipFill>
          <a:blip r:embed="rId2"/>
          <a:stretch/>
        </p:blipFill>
        <p:spPr>
          <a:xfrm>
            <a:off x="4270320" y="3897360"/>
            <a:ext cx="5397480" cy="2222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22F93-70B6-472D-A66A-4A86233CCB9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892080" y="298440"/>
            <a:ext cx="8420040" cy="7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Summary &amp; Conclus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/>
          </p:nvPr>
        </p:nvSpPr>
        <p:spPr>
          <a:xfrm>
            <a:off x="591840" y="1160280"/>
            <a:ext cx="843444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l PRO/10GbE LR Adapter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driver gave stable throughput and worked w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eed large MTU (9000 or 16114) – 1500 bytes gives ~2 Gbit/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CI-X tuning mmrbc = 4096 bytes increase by 55% (3.2 to 5.7 Gbit/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CI-X sequences clear on transmit gaps ~ 950 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ansfers: transmission (22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µs)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akes longer than receiving (18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µ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x rate 5.85 Gbit/s Rx rate 7.0 Gbit/s (Itanium) (PCI-X max 8.5Gbit/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PU load considerable 60% Xenon 40% Itani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W of Memory system important – crosses 3 times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ensitive to OS/ Driver upd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ore study nee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B4B52-9539-48AB-9E2E-144E70F841B9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8400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9D36D-FA2B-4BD8-B4FD-8B25779E4E07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932040" y="811080"/>
            <a:ext cx="7319880" cy="5491440"/>
          </a:xfrm>
          <a:prstGeom prst="rect">
            <a:avLst/>
          </a:prstGeom>
          <a:ln w="0">
            <a:noFill/>
          </a:ln>
        </p:spPr>
      </p:pic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8400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Arial"/>
              </a:rPr>
              <a:t>Test setup with the CERN Open Lab Itanium system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336EE-287C-4255-8519-C12EE2CA0466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/>
          </p:nvPr>
        </p:nvSpPr>
        <p:spPr>
          <a:xfrm>
            <a:off x="365040" y="754200"/>
            <a:ext cx="5756400" cy="50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47840" indent="-44784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cc"/>
                </a:solidFill>
                <a:latin typeface="Arial"/>
              </a:rPr>
              <a:t>1472 byte packets every 15 </a:t>
            </a: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µs  Intel Pro/1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cc"/>
                </a:solidFill>
                <a:latin typeface="Arial"/>
              </a:rPr>
              <a:t>PCI:64 bit 33 MH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cc"/>
                </a:solidFill>
                <a:latin typeface="Arial"/>
              </a:rPr>
              <a:t>82% u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PCI:64 bit 66 MH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65% u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Data transfers </a:t>
            </a:r>
            <a:br>
              <a:rPr sz="1600"/>
            </a:b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half as lo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1"/>
          <a:srcRect l="0" t="20483" r="0" b="13407"/>
          <a:stretch/>
        </p:blipFill>
        <p:spPr>
          <a:xfrm>
            <a:off x="4027320" y="1690560"/>
            <a:ext cx="5508720" cy="2084400"/>
          </a:xfrm>
          <a:prstGeom prst="rect">
            <a:avLst/>
          </a:prstGeom>
          <a:ln w="0">
            <a:noFill/>
          </a:ln>
        </p:spPr>
      </p:pic>
      <p:sp>
        <p:nvSpPr>
          <p:cNvPr id="364" name=""/>
          <p:cNvSpPr/>
          <p:nvPr/>
        </p:nvSpPr>
        <p:spPr>
          <a:xfrm>
            <a:off x="2308320" y="2270160"/>
            <a:ext cx="1236600" cy="495360"/>
          </a:xfr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 PC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695840" y="2093760"/>
            <a:ext cx="0" cy="8146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4695840" y="2928960"/>
            <a:ext cx="0" cy="55260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179800" y="2814480"/>
            <a:ext cx="1633320" cy="425520"/>
          </a:xfr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ceive PC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162400" y="2128680"/>
            <a:ext cx="6145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180120" y="2128680"/>
            <a:ext cx="6145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7240680" y="2128680"/>
            <a:ext cx="6141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8312040" y="2128680"/>
            <a:ext cx="6159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071800" y="1857240"/>
            <a:ext cx="1471680" cy="411120"/>
          </a:xfrm>
          <a:noFill/>
          <a:ln w="2844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 set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071800" y="1471680"/>
            <a:ext cx="1706400" cy="411120"/>
          </a:xfrm>
          <a:noFill/>
          <a:ln w="2844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 Transf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895400" y="3340080"/>
            <a:ext cx="2006640" cy="484200"/>
          </a:xfrm>
          <a:noFill/>
          <a:ln w="2844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ceive Transf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5" name=""/>
          <p:cNvGrpSpPr/>
          <p:nvPr/>
        </p:nvGrpSpPr>
        <p:grpSpPr>
          <a:xfrm>
            <a:off x="1743120" y="4027320"/>
            <a:ext cx="7791120" cy="2268720"/>
            <a:chOff x="1743120" y="4027320"/>
            <a:chExt cx="7791120" cy="2268720"/>
          </a:xfrm>
        </p:grpSpPr>
        <p:pic>
          <p:nvPicPr>
            <p:cNvPr id="376" name="" descr=""/>
            <p:cNvPicPr/>
            <p:nvPr/>
          </p:nvPicPr>
          <p:blipFill>
            <a:blip r:embed="rId2"/>
            <a:srcRect l="0" t="20674" r="0" b="12580"/>
            <a:stretch/>
          </p:blipFill>
          <p:spPr>
            <a:xfrm>
              <a:off x="4027680" y="4189320"/>
              <a:ext cx="5506560" cy="210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7" name=""/>
            <p:cNvSpPr/>
            <p:nvPr/>
          </p:nvSpPr>
          <p:spPr>
            <a:xfrm>
              <a:off x="2203200" y="4761000"/>
              <a:ext cx="1236240" cy="494640"/>
            </a:xfr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end PC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659480" y="4597200"/>
              <a:ext cx="720" cy="8118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659480" y="5429160"/>
              <a:ext cx="720" cy="55260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177280" y="5301000"/>
              <a:ext cx="1633320" cy="406800"/>
            </a:xfrm>
            <a:noFill/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eceive PC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148000" y="4620240"/>
              <a:ext cx="349560" cy="10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6301440" y="4617000"/>
              <a:ext cx="264240" cy="10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070360" y="4351320"/>
              <a:ext cx="1470600" cy="407880"/>
            </a:xfrm>
            <a:noFill/>
            <a:ln w="2844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end setu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891800" y="4027320"/>
              <a:ext cx="1705320" cy="407880"/>
            </a:xfrm>
            <a:noFill/>
            <a:ln w="2844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ata Transfe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1743120" y="5842080"/>
              <a:ext cx="2005560" cy="407880"/>
            </a:xfrm>
            <a:noFill/>
            <a:ln w="2844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eceive Transfe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7425360" y="4620240"/>
              <a:ext cx="371880" cy="10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8593920" y="4613040"/>
              <a:ext cx="371880" cy="10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8" name="PlaceHolder 2"/>
          <p:cNvSpPr>
            <a:spLocks noGrp="1"/>
          </p:cNvSpPr>
          <p:nvPr>
            <p:ph type="title"/>
          </p:nvPr>
        </p:nvSpPr>
        <p:spPr>
          <a:xfrm>
            <a:off x="1295280" y="128520"/>
            <a:ext cx="763272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1 GigE on IA32: PCI bus Activity 33 &amp; 66 MHz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9A589-D60F-4A51-9382-20A5E481A625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564840" y="944640"/>
            <a:ext cx="8948520" cy="57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UDP/IP packets sent between back-to-back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ff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imilar processing to TCP/IP but no flow control &amp; congestion avoidance algorith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ff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Used UDPmon test progr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Lat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ff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und trip times using Request-Response UDP fra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ff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tency as a function of frame siz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8000"/>
              </a:buClr>
              <a:buSzPct val="1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ope s given by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8000"/>
              </a:buClr>
              <a:buSzPct val="1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-mem copy(s) + pci + Gig Ethernet + pci + mem-mem copy(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8000"/>
              </a:buClr>
              <a:buSzPct val="1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cept indicates processing times + HW latenci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ff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grams of ‘singleton’ measur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DP Through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ff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 a controlled stream of UDP frames spaced at regular interv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ff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y the frame size and the frame transmit spacing &amp; meas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8000"/>
              </a:buClr>
              <a:buSzPct val="1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time of first and last frames recei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8000"/>
              </a:buClr>
              <a:buSzPct val="1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number packets received, lost, &amp; out of or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8000"/>
              </a:buClr>
              <a:buSzPct val="1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gram inter-packet spacing received packe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8000"/>
              </a:buClr>
              <a:buSzPct val="1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cket loss patter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8000"/>
              </a:buClr>
              <a:buSzPct val="1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way del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8000"/>
              </a:buClr>
              <a:buSzPct val="1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U lo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8000"/>
              </a:buClr>
              <a:buSzPct val="1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umber of interrup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1536840" y="279000"/>
            <a:ext cx="7610400" cy="7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Arial"/>
              </a:rPr>
              <a:t>Latency &amp; Throughput Measuremen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400800" y="1846440"/>
            <a:ext cx="3505320" cy="13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lls us abou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ff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havior of the IP 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ff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way the HW oper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ff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rupt coalesc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048360" y="5191200"/>
            <a:ext cx="3857760" cy="13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lls us abou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100000"/>
              </a:lnSpc>
              <a:spcBef>
                <a:spcPts val="400"/>
              </a:spcBef>
              <a:buClr>
                <a:srgbClr val="0000ff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havior of the IP 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100000"/>
              </a:lnSpc>
              <a:spcBef>
                <a:spcPts val="400"/>
              </a:spcBef>
              <a:buClr>
                <a:srgbClr val="0000ff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way the HW oper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100000"/>
              </a:lnSpc>
              <a:spcBef>
                <a:spcPts val="400"/>
              </a:spcBef>
              <a:buClr>
                <a:srgbClr val="0000ff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pacity &amp; Available throughput of the LAN / MAN / W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3768840" y="2387520"/>
                <a:ext cx="1690560" cy="68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data paths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</m:sub>
                      <m:sup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b</m:t>
                                    </m:r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t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3FEE4-91FC-42D7-93E5-F43EC51A7E7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36840" y="279000"/>
            <a:ext cx="7610400" cy="7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Arial"/>
              </a:rPr>
              <a:t>The Throughput Measuremen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68160" y="1055520"/>
            <a:ext cx="8374320" cy="516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DP Through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 a controlled stream of UDP frames spaced at regular interv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1413000" y="1849320"/>
            <a:ext cx="7873920" cy="2772000"/>
            <a:chOff x="1413000" y="1849320"/>
            <a:chExt cx="7873920" cy="2772000"/>
          </a:xfrm>
        </p:grpSpPr>
        <p:sp>
          <p:nvSpPr>
            <p:cNvPr id="65" name=""/>
            <p:cNvSpPr/>
            <p:nvPr/>
          </p:nvSpPr>
          <p:spPr>
            <a:xfrm>
              <a:off x="6365880" y="1933560"/>
              <a:ext cx="0" cy="243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294000" y="1925640"/>
              <a:ext cx="0" cy="243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195720" y="1925640"/>
              <a:ext cx="495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5968800" y="2108160"/>
              <a:ext cx="495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H="1">
              <a:off x="3293640" y="2108160"/>
              <a:ext cx="2675160" cy="92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H="1" flipV="1">
              <a:off x="3691080" y="1925640"/>
              <a:ext cx="2674800" cy="92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733400" y="1849320"/>
              <a:ext cx="1430640" cy="32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Zero stat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464160" y="1925640"/>
              <a:ext cx="990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K do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195720" y="2290680"/>
              <a:ext cx="495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195720" y="2382840"/>
              <a:ext cx="495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195720" y="2930400"/>
              <a:ext cx="495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294000" y="2565360"/>
              <a:ext cx="595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●●●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95720" y="3479760"/>
              <a:ext cx="495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>
              <a:off x="5968800" y="3662280"/>
              <a:ext cx="495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>
              <a:off x="3293640" y="3662280"/>
              <a:ext cx="2675160" cy="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H="1" flipV="1">
              <a:off x="3691080" y="3479400"/>
              <a:ext cx="2674800" cy="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467000" y="3387600"/>
              <a:ext cx="1687320" cy="29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t remote statis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711840" y="3448080"/>
              <a:ext cx="2575080" cy="117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nd statistics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. receive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. lost + loss patter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. out-of-ord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PU load &amp; no. i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-way dela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725480" y="2200320"/>
              <a:ext cx="990720" cy="73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nd data frames 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gular interval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076800" y="2382840"/>
              <a:ext cx="495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076800" y="2489040"/>
              <a:ext cx="495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819760" y="2793960"/>
              <a:ext cx="595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●●●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084720" y="3265560"/>
              <a:ext cx="495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093000" y="3417840"/>
              <a:ext cx="495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040200" y="2290680"/>
              <a:ext cx="0" cy="66996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786720" y="2351160"/>
              <a:ext cx="9360" cy="10508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413000" y="3038400"/>
              <a:ext cx="1073160" cy="297000"/>
            </a:xfr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ime to sen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46960" y="3036960"/>
              <a:ext cx="1568520" cy="325440"/>
            </a:xfr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ime to receiv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446960" y="2503440"/>
              <a:ext cx="1582920" cy="355680"/>
            </a:xfr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ter-packet tim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Histogram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621480" y="2351160"/>
              <a:ext cx="0" cy="15228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195720" y="3975120"/>
              <a:ext cx="495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>
              <a:off x="5968800" y="4157640"/>
              <a:ext cx="495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>
              <a:off x="3293640" y="4157640"/>
              <a:ext cx="2675160" cy="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 flipH="1" flipV="1">
              <a:off x="3691080" y="3974760"/>
              <a:ext cx="2674800" cy="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467000" y="3882960"/>
              <a:ext cx="168732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ignal end of tes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550200" y="4068720"/>
              <a:ext cx="990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K do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1146240" y="4764240"/>
            <a:ext cx="7562160" cy="1566360"/>
            <a:chOff x="1146240" y="4764240"/>
            <a:chExt cx="7562160" cy="1566360"/>
          </a:xfrm>
        </p:grpSpPr>
        <p:sp>
          <p:nvSpPr>
            <p:cNvPr id="102" name=""/>
            <p:cNvSpPr/>
            <p:nvPr/>
          </p:nvSpPr>
          <p:spPr>
            <a:xfrm>
              <a:off x="1146240" y="5670360"/>
              <a:ext cx="742464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401840" y="5510160"/>
              <a:ext cx="833400" cy="159840"/>
            </a:xfrm>
            <a:prstGeom prst="rect">
              <a:avLst/>
            </a:prstGeom>
            <a:solidFill>
              <a:srgbClr val="cc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401840" y="4870440"/>
              <a:ext cx="0" cy="1460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93240" y="4879800"/>
              <a:ext cx="0" cy="79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876400" y="5265720"/>
              <a:ext cx="0" cy="106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363920" y="5513400"/>
              <a:ext cx="833400" cy="159840"/>
            </a:xfrm>
            <a:prstGeom prst="rect">
              <a:avLst/>
            </a:prstGeom>
            <a:solidFill>
              <a:srgbClr val="cc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876400" y="5505480"/>
              <a:ext cx="833760" cy="159840"/>
            </a:xfrm>
            <a:prstGeom prst="rect">
              <a:avLst/>
            </a:prstGeom>
            <a:solidFill>
              <a:srgbClr val="cc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359480" y="5513400"/>
              <a:ext cx="833760" cy="159840"/>
            </a:xfrm>
            <a:prstGeom prst="rect">
              <a:avLst/>
            </a:prstGeom>
            <a:solidFill>
              <a:srgbClr val="cc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436760" y="4876560"/>
              <a:ext cx="6711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235240" y="5265720"/>
              <a:ext cx="0" cy="407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449720" y="5099040"/>
              <a:ext cx="758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 byt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915360" y="4764240"/>
              <a:ext cx="168048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umber of packe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428840" y="6172200"/>
              <a:ext cx="1454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687320" y="5995800"/>
              <a:ext cx="92448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ait tim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8190720" y="5873760"/>
              <a:ext cx="517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028920" y="5337000"/>
              <a:ext cx="400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c0066"/>
                  </a:solidFill>
                  <a:latin typeface="Symbol"/>
                  <a:ea typeface="Symbol"/>
                </a:rPr>
                <a:t>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91F7A-5EB3-4DCA-8D2E-00B60DBD1D8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36840" y="279000"/>
            <a:ext cx="7610400" cy="7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Arial"/>
              </a:rPr>
              <a:t>The PCI Bus &amp; Gigabit Ethernet Measuremen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67800" y="1055160"/>
            <a:ext cx="838836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CI A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ic Analyzer wi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ff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CI Probe cards in sending P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ff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igabit Ethernet Fiber Probe C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ff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CI Probe cards in receiving P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35400" y="2906640"/>
            <a:ext cx="8629920" cy="3177360"/>
            <a:chOff x="635400" y="2906640"/>
            <a:chExt cx="8629920" cy="3177360"/>
          </a:xfrm>
        </p:grpSpPr>
        <p:sp>
          <p:nvSpPr>
            <p:cNvPr id="121" name=""/>
            <p:cNvSpPr/>
            <p:nvPr/>
          </p:nvSpPr>
          <p:spPr>
            <a:xfrm>
              <a:off x="1946160" y="4286160"/>
              <a:ext cx="1154160" cy="0"/>
            </a:xfrm>
            <a:prstGeom prst="line">
              <a:avLst/>
            </a:prstGeom>
            <a:ln w="127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405320" y="2906640"/>
              <a:ext cx="1243080" cy="1313640"/>
            </a:xfrm>
            <a:prstGeom prst="rect">
              <a:avLst/>
            </a:prstGeom>
            <a:solidFill>
              <a:srgbClr val="ff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Gigab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Eth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rob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flipH="1">
              <a:off x="5536800" y="3562200"/>
              <a:ext cx="1800" cy="209880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405160" y="5703840"/>
              <a:ext cx="5321160" cy="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 flipV="1">
              <a:off x="3184560" y="3258720"/>
              <a:ext cx="3762360" cy="1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 flipV="1">
              <a:off x="3201840" y="3560760"/>
              <a:ext cx="3762720" cy="1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022400" y="3664080"/>
              <a:ext cx="0" cy="117000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35400" y="3259080"/>
              <a:ext cx="718560" cy="398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PU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56280" y="4746600"/>
              <a:ext cx="746280" cy="398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e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816120" y="4078440"/>
              <a:ext cx="1168200" cy="398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hips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rot="16200000">
              <a:off x="2388600" y="3560760"/>
              <a:ext cx="1168200" cy="398880"/>
            </a:xfrm>
            <a:prstGeom prst="rect">
              <a:avLst/>
            </a:prstGeom>
            <a:solidFill>
              <a:srgbClr val="ff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NI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8885160" y="3697200"/>
              <a:ext cx="0" cy="117000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8498160" y="3268800"/>
              <a:ext cx="718560" cy="398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PU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8519040" y="4756320"/>
              <a:ext cx="746280" cy="398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e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897600" y="4295880"/>
              <a:ext cx="1154160" cy="0"/>
            </a:xfrm>
            <a:prstGeom prst="line">
              <a:avLst/>
            </a:prstGeom>
            <a:ln w="127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rot="16200000">
              <a:off x="6516000" y="3564000"/>
              <a:ext cx="1168200" cy="398880"/>
            </a:xfrm>
            <a:prstGeom prst="rect">
              <a:avLst/>
            </a:prstGeom>
            <a:solidFill>
              <a:srgbClr val="ff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NI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8007480" y="4095720"/>
              <a:ext cx="1168200" cy="398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hips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131360" y="5380200"/>
              <a:ext cx="1852560" cy="703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Logic Analys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Displa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 flipV="1">
              <a:off x="2405160" y="4354560"/>
              <a:ext cx="0" cy="134928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flipV="1">
              <a:off x="7711920" y="4341960"/>
              <a:ext cx="0" cy="134928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flipH="1">
              <a:off x="4535640" y="3281400"/>
              <a:ext cx="1440" cy="209880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A797F-84C2-4FF0-9AE2-BE6D009587F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62120" y="271080"/>
            <a:ext cx="840096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Example: The 1 Gigabit NIC Intel pro/1000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31840" y="3311640"/>
            <a:ext cx="128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Verdana"/>
              </a:rPr>
              <a:t>Latenc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900680" y="871560"/>
            <a:ext cx="155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Verdana"/>
              </a:rPr>
              <a:t>Through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055120" y="3354480"/>
            <a:ext cx="15325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Verdana"/>
              </a:rPr>
              <a:t>Bus Activ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4836960" y="1173240"/>
            <a:ext cx="4905360" cy="22273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444600" y="968400"/>
            <a:ext cx="3948120" cy="22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434160" indent="-43416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Motherboard: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宋体"/>
              </a:rPr>
              <a:t>Supermicro P4DP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34160" indent="-43416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hipset: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宋体"/>
              </a:rPr>
              <a:t>E7500 (Plumas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34160" indent="-43416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PU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ual Xeon 2 2GHz with 512k L2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34160" indent="-43416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 bus 400 MHz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CI-X 64 bit 66 MH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34160" indent="-43416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P Linux Kernel 2.4.19 SM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34160" indent="-43416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TU 1500 by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34160" indent="-43416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34160" indent="-43416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宋体"/>
              </a:rPr>
              <a:t>Intel PRO/1000 XT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1360440" y="3392640"/>
            <a:ext cx="3167280" cy="153324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3"/>
          <a:stretch/>
        </p:blipFill>
        <p:spPr>
          <a:xfrm>
            <a:off x="262080" y="4975200"/>
            <a:ext cx="4708440" cy="1260360"/>
          </a:xfrm>
          <a:prstGeom prst="rect">
            <a:avLst/>
          </a:prstGeom>
          <a:ln w="0">
            <a:noFill/>
          </a:ln>
        </p:spPr>
      </p:pic>
      <p:grpSp>
        <p:nvGrpSpPr>
          <p:cNvPr id="150" name=""/>
          <p:cNvGrpSpPr/>
          <p:nvPr/>
        </p:nvGrpSpPr>
        <p:grpSpPr>
          <a:xfrm>
            <a:off x="5006880" y="3414600"/>
            <a:ext cx="4702320" cy="3120120"/>
            <a:chOff x="5006880" y="3414600"/>
            <a:chExt cx="4702320" cy="3120120"/>
          </a:xfrm>
        </p:grpSpPr>
        <p:pic>
          <p:nvPicPr>
            <p:cNvPr id="151" name="" descr=""/>
            <p:cNvPicPr/>
            <p:nvPr/>
          </p:nvPicPr>
          <p:blipFill>
            <a:blip r:embed="rId4"/>
            <a:stretch/>
          </p:blipFill>
          <p:spPr>
            <a:xfrm>
              <a:off x="5006880" y="3821040"/>
              <a:ext cx="4702320" cy="24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"/>
            <p:cNvSpPr/>
            <p:nvPr/>
          </p:nvSpPr>
          <p:spPr>
            <a:xfrm flipV="1">
              <a:off x="5952960" y="4828680"/>
              <a:ext cx="300240" cy="1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flipV="1">
              <a:off x="6946920" y="4824000"/>
              <a:ext cx="239760" cy="1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flipV="1">
              <a:off x="7920000" y="4826160"/>
              <a:ext cx="298440" cy="1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flipV="1">
              <a:off x="8904240" y="4827600"/>
              <a:ext cx="297000" cy="1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149880" y="6227640"/>
              <a:ext cx="1540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eceive Transf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>
              <a:off x="6136920" y="3556080"/>
              <a:ext cx="1220760" cy="12477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309440" y="3414600"/>
              <a:ext cx="1311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nd Transf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>
              <a:off x="8070840" y="5776920"/>
              <a:ext cx="228600" cy="144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7639200" y="5764320"/>
              <a:ext cx="506160" cy="59364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V="1">
              <a:off x="9064800" y="5780160"/>
              <a:ext cx="228600" cy="144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7059600" y="5778000"/>
              <a:ext cx="228600" cy="180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flipV="1">
              <a:off x="6070680" y="5778000"/>
              <a:ext cx="228600" cy="180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55D1F-81B1-4755-86D2-D9D4FBA667A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307880" y="213840"/>
            <a:ext cx="7753320" cy="6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cc"/>
                </a:solidFill>
                <a:latin typeface="Arial"/>
                <a:ea typeface="Arial"/>
              </a:rPr>
              <a:t>Data Flow: SuperMicro 370DLE: SysKonn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06360" y="826920"/>
            <a:ext cx="7893000" cy="96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Motherboard: SuperMicro 370DLE  Chipset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erWorks III LE Chips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PU: PIII 800 MHz </a:t>
            </a: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PCI:64 bit 66 MH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edHat 7.1 Kernel 2.4.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16080" y="5110200"/>
            <a:ext cx="7893000" cy="12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400 bytes s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 100 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~8 us for send or rece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26880" y="5992920"/>
            <a:ext cx="78933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ck &amp; Application overhead ~ 10 us / n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1455840" y="1346040"/>
            <a:ext cx="8200440" cy="4385520"/>
            <a:chOff x="1455840" y="1346040"/>
            <a:chExt cx="8200440" cy="4385520"/>
          </a:xfrm>
        </p:grpSpPr>
        <p:pic>
          <p:nvPicPr>
            <p:cNvPr id="169" name="" descr=""/>
            <p:cNvPicPr/>
            <p:nvPr/>
          </p:nvPicPr>
          <p:blipFill>
            <a:blip r:embed="rId1"/>
            <a:stretch/>
          </p:blipFill>
          <p:spPr>
            <a:xfrm>
              <a:off x="3422520" y="1828800"/>
              <a:ext cx="5634000" cy="29955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70" name=""/>
            <p:cNvGrpSpPr/>
            <p:nvPr/>
          </p:nvGrpSpPr>
          <p:grpSpPr>
            <a:xfrm>
              <a:off x="1536840" y="2271600"/>
              <a:ext cx="2479680" cy="1096920"/>
              <a:chOff x="1536840" y="2271600"/>
              <a:chExt cx="2479680" cy="1096920"/>
            </a:xfrm>
          </p:grpSpPr>
          <p:sp>
            <p:nvSpPr>
              <p:cNvPr id="171" name=""/>
              <p:cNvSpPr/>
              <p:nvPr/>
            </p:nvSpPr>
            <p:spPr>
              <a:xfrm>
                <a:off x="1536840" y="2777040"/>
                <a:ext cx="1265400" cy="591480"/>
              </a:xfrm>
              <a:noFill/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Send PCI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4016520" y="2271600"/>
                <a:ext cx="0" cy="9712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3" name=""/>
            <p:cNvGrpSpPr/>
            <p:nvPr/>
          </p:nvGrpSpPr>
          <p:grpSpPr>
            <a:xfrm>
              <a:off x="1455840" y="3309840"/>
              <a:ext cx="2563560" cy="676080"/>
              <a:chOff x="1455840" y="3309840"/>
              <a:chExt cx="2563560" cy="676080"/>
            </a:xfrm>
          </p:grpSpPr>
          <p:sp>
            <p:nvSpPr>
              <p:cNvPr id="174" name=""/>
              <p:cNvSpPr/>
              <p:nvPr/>
            </p:nvSpPr>
            <p:spPr>
              <a:xfrm>
                <a:off x="4019400" y="3309840"/>
                <a:ext cx="0" cy="659880"/>
              </a:xfrm>
              <a:prstGeom prst="line">
                <a:avLst/>
              </a:prstGeom>
              <a:ln w="284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1455840" y="3578040"/>
                <a:ext cx="1672200" cy="407880"/>
              </a:xfrm>
              <a:noFill/>
              <a:ln w="284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Receive PCI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6" name=""/>
            <p:cNvSpPr/>
            <p:nvPr/>
          </p:nvSpPr>
          <p:spPr>
            <a:xfrm>
              <a:off x="4475160" y="3009600"/>
              <a:ext cx="14400" cy="27021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487760" y="5570280"/>
              <a:ext cx="361152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077320" y="3011400"/>
              <a:ext cx="14040" cy="27018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882040" y="5394240"/>
              <a:ext cx="796320" cy="33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~36 u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4624560" y="2928240"/>
              <a:ext cx="261720" cy="1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4808160" y="1546200"/>
              <a:ext cx="1863720" cy="13903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629040" y="1358640"/>
              <a:ext cx="1465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end Transf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316640" y="3821040"/>
              <a:ext cx="636840" cy="119376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886280" y="1346040"/>
              <a:ext cx="1692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end CSR setu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4552920" y="1522080"/>
              <a:ext cx="388800" cy="8924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V="1">
              <a:off x="7191360" y="3798720"/>
              <a:ext cx="262080" cy="144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V="1">
              <a:off x="5916600" y="4105080"/>
              <a:ext cx="1116000" cy="14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930080" y="4860720"/>
              <a:ext cx="1726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eceive Transf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846680" y="4876560"/>
              <a:ext cx="2425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acket on Ethernet Fib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flipH="1">
              <a:off x="4840200" y="4122720"/>
              <a:ext cx="1263600" cy="8506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C2EF0-3C9D-4B8F-8D51-6572852473F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rcRect l="0" t="5008" r="0" b="0"/>
          <a:stretch/>
        </p:blipFill>
        <p:spPr>
          <a:xfrm>
            <a:off x="1057320" y="765000"/>
            <a:ext cx="7723080" cy="5502600"/>
          </a:xfrm>
          <a:prstGeom prst="rect">
            <a:avLst/>
          </a:prstGeom>
          <a:ln w="0">
            <a:noFill/>
          </a:ln>
        </p:spPr>
      </p:pic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49320" y="199800"/>
            <a:ext cx="8400960" cy="55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66"/>
                </a:solidFill>
                <a:latin typeface="Arial"/>
              </a:rPr>
              <a:t>10 Gigabit Ethernet NIC with the PCI-X probe card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14B04-C5B4-4947-9121-22D5C8B8976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1049400" y="749160"/>
            <a:ext cx="7415280" cy="5562720"/>
          </a:xfrm>
          <a:prstGeom prst="rect">
            <a:avLst/>
          </a:prstGeom>
          <a:ln w="0">
            <a:noFill/>
          </a:ln>
        </p:spPr>
      </p:pic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80560" y="218880"/>
            <a:ext cx="840132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66"/>
                </a:solidFill>
                <a:latin typeface="Arial"/>
              </a:rPr>
              <a:t>Intel PRO/10GbE LR Adapter in the HP rx2600 system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CCAF6-B933-4164-8157-718CC6DD1A1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7T17:14:18Z</dcterms:created>
  <dc:creator>R.Hughes-Jones</dc:creator>
  <dc:description/>
  <dc:language>en-US</dc:language>
  <cp:lastModifiedBy>R. Hughes-Jones</cp:lastModifiedBy>
  <dcterms:modified xsi:type="dcterms:W3CDTF">2004-02-16T14:42:59Z</dcterms:modified>
  <cp:revision>132</cp:revision>
  <dc:subject/>
  <dc:title>PowerPoint Presentation</dc:title>
</cp:coreProperties>
</file>